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817092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9040" y="4037400"/>
            <a:ext cx="817092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200" y="19062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9040" y="40374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6200" y="40374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26308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1680" y="1906200"/>
            <a:ext cx="26308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74680" y="1906200"/>
            <a:ext cx="26308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9040" y="4037400"/>
            <a:ext cx="26308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1680" y="4037400"/>
            <a:ext cx="26308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74680" y="4037400"/>
            <a:ext cx="26308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9040" y="1906200"/>
            <a:ext cx="81709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81709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39873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6200" y="1906200"/>
            <a:ext cx="39873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14240" y="73080"/>
            <a:ext cx="82980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6200" y="1906200"/>
            <a:ext cx="39873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9040" y="40374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39873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6200" y="19062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6200" y="40374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9040" y="19062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6200" y="1906200"/>
            <a:ext cx="398736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9040" y="4037400"/>
            <a:ext cx="817092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7308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9040" y="1906200"/>
            <a:ext cx="81709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653240" y="5357880"/>
            <a:ext cx="189864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3880" y="56880"/>
            <a:ext cx="8301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voyage à Oxford - Blenheim Palac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9040" y="1906560"/>
            <a:ext cx="81738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fr-FR" sz="2700" spc="-1" strike="noStrike">
                <a:solidFill>
                  <a:srgbClr val="e6e6e6"/>
                </a:solidFill>
                <a:latin typeface="Times New Roman"/>
              </a:rPr>
              <a:t>Sacha et Romain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 advTm="18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Column of Victory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0360" y="2446200"/>
            <a:ext cx="398952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It's the obeliscus in full and we can see the column is very high : it's 40 meters high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71" name="Image 4" descr="DSCN5188.jpg"/>
          <p:cNvPicPr/>
          <p:nvPr/>
        </p:nvPicPr>
        <p:blipFill>
          <a:blip r:embed="rId1"/>
          <a:stretch/>
        </p:blipFill>
        <p:spPr>
          <a:xfrm>
            <a:off x="644400" y="1096920"/>
            <a:ext cx="3799080" cy="506412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Blenheim Palace garden 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0840" y="1857240"/>
            <a:ext cx="398916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It's the back of Blenheim Palace and its garden with the pond and fountains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We must keep off the grass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74" name="Image 4" descr="SDC10144.JPG"/>
          <p:cNvPicPr/>
          <p:nvPr/>
        </p:nvPicPr>
        <p:blipFill>
          <a:blip r:embed="rId1"/>
          <a:stretch/>
        </p:blipFill>
        <p:spPr>
          <a:xfrm>
            <a:off x="144360" y="159696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Column of Victory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720" y="1906560"/>
            <a:ext cx="3989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fr-FR" sz="2600" spc="-1" strike="noStrike">
                <a:solidFill>
                  <a:srgbClr val="e6e6e6"/>
                </a:solidFill>
                <a:latin typeface="Arial"/>
              </a:rPr>
              <a:t>On this picture , we can see everybody in front of the obeliscus 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fr-FR" sz="2600" spc="-1" strike="noStrike">
                <a:solidFill>
                  <a:srgbClr val="e6e6e6"/>
                </a:solidFill>
                <a:latin typeface="Arial"/>
              </a:rPr>
              <a:t>It's called the column of victory . 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7" name="Image 4" descr="SDC10136.JPG"/>
          <p:cNvPicPr/>
          <p:nvPr/>
        </p:nvPicPr>
        <p:blipFill>
          <a:blip r:embed="rId1"/>
          <a:stretch/>
        </p:blipFill>
        <p:spPr>
          <a:xfrm>
            <a:off x="573120" y="1739880"/>
            <a:ext cx="4668840" cy="35002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Column of Victory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90840" y="3060720"/>
            <a:ext cx="398916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2600" spc="-1" strike="noStrike">
                <a:solidFill>
                  <a:srgbClr val="e6e6e6"/>
                </a:solidFill>
                <a:latin typeface="Arial"/>
              </a:rPr>
              <a:t>It's the road we took to go to the Column of victory and we ran all the way. Sacha got there first!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50" name="Image 4" descr="Voyage à Oxford Avril 2010 128.JPG"/>
          <p:cNvPicPr/>
          <p:nvPr/>
        </p:nvPicPr>
        <p:blipFill>
          <a:blip r:embed="rId1"/>
          <a:stretch/>
        </p:blipFill>
        <p:spPr>
          <a:xfrm>
            <a:off x="1144440" y="1025640"/>
            <a:ext cx="38592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Laurie's birthday !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857240"/>
            <a:ext cx="3989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This is Laurie with her friends , it was her birthday and we sang « Happy birthday » !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53" name="Image 4" descr="Voyage à Oxford Avril 2010 126.JPG"/>
          <p:cNvPicPr/>
          <p:nvPr/>
        </p:nvPicPr>
        <p:blipFill>
          <a:blip r:embed="rId1"/>
          <a:stretch/>
        </p:blipFill>
        <p:spPr>
          <a:xfrm>
            <a:off x="4430880" y="1382760"/>
            <a:ext cx="4668840" cy="35002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Laurie's birthday 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720" y="1906560"/>
            <a:ext cx="3989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This is Blenheim Palace’s front gate and that’s where we took a photo on Laurie's birthday !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56" name="Image 4" descr="Voyage à Oxford Avril 2010 123.JPG"/>
          <p:cNvPicPr/>
          <p:nvPr/>
        </p:nvPicPr>
        <p:blipFill>
          <a:blip r:embed="rId1"/>
          <a:stretch/>
        </p:blipFill>
        <p:spPr>
          <a:xfrm>
            <a:off x="858960" y="1168560"/>
            <a:ext cx="371448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Blenheim Palace front gat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720" y="1906560"/>
            <a:ext cx="3989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It's a second plan of Blenheim Palace’s  entrance taken in landscape format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59" name="Image 4" descr="SDC10125.JPG"/>
          <p:cNvPicPr/>
          <p:nvPr/>
        </p:nvPicPr>
        <p:blipFill>
          <a:blip r:embed="rId1"/>
          <a:stretch/>
        </p:blipFill>
        <p:spPr>
          <a:xfrm>
            <a:off x="573120" y="1954080"/>
            <a:ext cx="4624200" cy="34689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The Column of Victory 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38720" y="1906560"/>
            <a:ext cx="3989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This is the same photo as the first but taken by  Chloé .R and everybody was showing off . 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62" name="Image 4" descr="Voyage à Oxford Avril 2010 132.JPG"/>
          <p:cNvPicPr/>
          <p:nvPr/>
        </p:nvPicPr>
        <p:blipFill>
          <a:blip r:embed="rId1"/>
          <a:stretch/>
        </p:blipFill>
        <p:spPr>
          <a:xfrm>
            <a:off x="501480" y="1668600"/>
            <a:ext cx="45738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Blenheim Palace 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38720" y="1906560"/>
            <a:ext cx="39895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It's a view of Blenheim Palace , it's a bit dark , but we can see windows and big columns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65" name="Image 4" descr="DSCN5179.JPG"/>
          <p:cNvPicPr/>
          <p:nvPr/>
        </p:nvPicPr>
        <p:blipFill>
          <a:blip r:embed="rId1"/>
          <a:stretch/>
        </p:blipFill>
        <p:spPr>
          <a:xfrm>
            <a:off x="573120" y="1739880"/>
            <a:ext cx="4573440" cy="37148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997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fr-FR" sz="4000" spc="-1" strike="noStrike">
                <a:solidFill>
                  <a:srgbClr val="e6e6e6"/>
                </a:solidFill>
                <a:latin typeface="Arial"/>
              </a:rPr>
              <a:t>The column of Victory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17840" y="2097000"/>
            <a:ext cx="39891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4780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Arial"/>
              </a:rPr>
              <a:t>It's the statue on the obeliscus and the man is John Churchill, first Duke of Marlborough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68" name="Image 4" descr="DSCN5187.JPG"/>
          <p:cNvPicPr/>
          <p:nvPr/>
        </p:nvPicPr>
        <p:blipFill>
          <a:blip r:embed="rId1"/>
          <a:stretch/>
        </p:blipFill>
        <p:spPr>
          <a:xfrm>
            <a:off x="573120" y="1454040"/>
            <a:ext cx="4327560" cy="32450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2:37:12Z</dcterms:created>
  <dc:creator>Sabine Duchenne</dc:creator>
  <dc:description>Étude de la situation et de son évolution, proposition d'une ou plusieurs stratégies</dc:description>
  <dc:language>en-US</dc:language>
  <cp:lastModifiedBy>Sabine Duchenne</cp:lastModifiedBy>
  <dcterms:modified xsi:type="dcterms:W3CDTF">2010-06-09T14:56:53Z</dcterms:modified>
  <cp:revision>19</cp:revision>
  <dc:subject/>
  <dc:title>Proposition de stratégie</dc:title>
</cp:coreProperties>
</file>