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18D-38B4-47DA-BD34-32AA1064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D14-E2C1-4952-9789-29F5F07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96B-0411-45A9-BA52-1221D52F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130-3C4A-4AB1-AD0B-B08EC789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04D-CEA9-4164-B522-D969A404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094-CA84-470A-9314-F59033B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451-20DE-4B70-BF2A-A4EBB6FC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793-2A4C-4C44-BC8E-BE43675E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F89-8211-4D03-A948-50AFA6C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D5C-3CB3-42DD-BF28-F30C4A3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999-D60E-486A-BE8C-F5D1158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CA0-23FC-4D1C-AE26-994106E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1C6002-E2DF-4787-A193-F6C91C43EA6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 u="sng">
                <a:solidFill>
                  <a:srgbClr val="b80047"/>
                </a:solidFill>
                <a:uFillTx/>
                <a:latin typeface="Comic Sans MS"/>
              </a:rPr>
              <a:t>The FA Cup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, we can see Mr Danneels in Wembley Stadium with the FA Cup . </a:t>
            </a:r>
            <a:r>
              <a:rPr b="0" lang="fr-FR" sz="3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402160" y="21384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changing room of players with their jerseys. We saw David Beckham’s jersey , it was nice  :P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cteur droit avec flèche 5"/>
          <p:cNvCxnSpPr/>
          <p:nvPr/>
        </p:nvCxnSpPr>
        <p:spPr>
          <a:xfrm flipV="1">
            <a:off x="8611200" y="4279680"/>
            <a:ext cx="214920" cy="786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54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, we can see players of Manchester United with the FA cup! They won in 2004! :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132520" y="2700360"/>
            <a:ext cx="4105080" cy="3295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8780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FA cup. It's a silver cup decorated with red ribbon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135400" y="2340000"/>
            <a:ext cx="4106880" cy="3719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788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a captain with the FA cup in his hands. He is smiling because he  is happy to win the challenge with his team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538960" y="2158920"/>
            <a:ext cx="3176280" cy="4759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players' entrance in Wembley (the man on the picture was a visitor too 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English team in the background and at the center we can see the world cup . England won the world cup in 1966 in Wembley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substitutes' and coach's chairs next to the players’  entrance; seats are red and sometimes blue and white . We sat down here 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When we were in the stadium, we could see « WEMBLEY » with blue and white chairs. When we were here, we saw a man mowing the lawn 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133960" y="2700360"/>
            <a:ext cx="4106880" cy="335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e stadium we saw the VIP rooms and the seats where the Queen and members of the Royal Family usually s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5133960" y="2700360"/>
            <a:ext cx="4106880" cy="335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45:13Z</dcterms:created>
  <dc:creator>Sabine Duchenne</dc:creator>
  <dc:description/>
  <dc:language>en-US</dc:language>
  <cp:lastModifiedBy>Sabine Duchenne</cp:lastModifiedBy>
  <dcterms:modified xsi:type="dcterms:W3CDTF">2010-06-09T14:53:15Z</dcterms:modified>
  <cp:revision>5</cp:revision>
  <dc:subject/>
  <dc:title>The FA Cup.</dc:title>
</cp:coreProperties>
</file>