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823-B440-48B2-A89C-1E1AE5F1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514-76C5-42C1-9C6E-8C0A0D0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1AC-0753-44FB-9BC2-FB52CC6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5A3-A6CE-40D5-9F0A-4B80DC63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AD6-5EAE-4494-A3B2-13E9163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F6D-4F61-46C3-92E8-C4BD807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68D-56FF-4410-93E3-3B7D63F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2A5-F6E5-4BA7-A04B-6B2D7CA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9A5-35A7-463D-97AE-E32A7A1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FE3-822A-47A7-8F76-179D0D8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0E3-D95A-4529-AF8D-71F925C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C95-3D33-4A59-A64A-A8FD61F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BF11AB-C508-4D22-884A-BEAFA976E3B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96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 u="sng">
                <a:solidFill>
                  <a:srgbClr val="b80047"/>
                </a:solidFill>
                <a:uFillTx/>
                <a:latin typeface="Comic Sans MS"/>
              </a:rPr>
              <a:t>The FA Cup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, we can see Mr Danneels in Wembley Stadium with the FA Cup . </a:t>
            </a:r>
            <a:r>
              <a:rPr b="0" lang="fr-FR" sz="3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402160" y="21384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changing room of players with their jerseys. We saw David Beckham’s jersey , it was nice  :P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cteur droit avec flèche 5"/>
          <p:cNvCxnSpPr/>
          <p:nvPr/>
        </p:nvCxnSpPr>
        <p:spPr>
          <a:xfrm flipV="1">
            <a:off x="8611200" y="4279680"/>
            <a:ext cx="214920" cy="786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54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, we can see players of Manchester United with the FA cup! They won in 2004! :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132520" y="2700360"/>
            <a:ext cx="4105080" cy="3295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8780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FA cup. It's a silver cup decorated with red ribbon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135400" y="2340000"/>
            <a:ext cx="4106880" cy="3719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788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a captain with the FA cup in his hands. He is smiling because he  is happy to win the challenge with his team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538960" y="2158920"/>
            <a:ext cx="3176280" cy="4759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players' entrance in Wembley (the man on the picture was a visitor too 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English team in the background and at the center we can see the world cup . England won the world cup in 1966 in Wembley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is picture we can see the substitutes' and coach's chairs next to the players’  entrance; seats are red and sometimes blue and white . We sat down here 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133960" y="2519280"/>
            <a:ext cx="4106880" cy="3538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When we were in the stadium, we could see « WEMBLEY » with blue and white chairs. When we were here, we saw a man mowing the lawn 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133960" y="2700360"/>
            <a:ext cx="4106880" cy="335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8780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fr-FR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b80047"/>
                </a:solidFill>
                <a:latin typeface="Comic Sans MS"/>
              </a:rPr>
              <a:t>In the stadium we saw the VIP rooms and the seats where the Queen and members of the Royal Family usually s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5133960" y="2700360"/>
            <a:ext cx="4106880" cy="335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45:13Z</dcterms:created>
  <dc:creator>Sabine Duchenne</dc:creator>
  <dc:description/>
  <dc:language>en-US</dc:language>
  <cp:lastModifiedBy>Sabine Duchenne</cp:lastModifiedBy>
  <dcterms:modified xsi:type="dcterms:W3CDTF">2010-06-09T14:53:15Z</dcterms:modified>
  <cp:revision>5</cp:revision>
  <dc:subject/>
  <dc:title>The FA Cup.</dc:title>
</cp:coreProperties>
</file>