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B464B-B8BC-426E-9CD4-74CB13186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292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0880" y="2101680"/>
            <a:ext cx="860292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0880" y="4587120"/>
            <a:ext cx="860292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19D8B-C5D3-4110-B6E0-DD42D9298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292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0880" y="2101680"/>
            <a:ext cx="419796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2101680"/>
            <a:ext cx="419796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0880" y="4587120"/>
            <a:ext cx="419796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587120"/>
            <a:ext cx="419796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7B2E2-01AC-42AC-A85F-0D8905540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292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0880" y="2101680"/>
            <a:ext cx="276984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9680" y="2101680"/>
            <a:ext cx="276984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58480" y="2101680"/>
            <a:ext cx="276984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0880" y="4587120"/>
            <a:ext cx="276984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9680" y="4587120"/>
            <a:ext cx="276984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58480" y="4587120"/>
            <a:ext cx="276984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F4DE0-11C1-4992-908D-B42883E74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292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740880" y="2101680"/>
            <a:ext cx="860292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292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40880" y="2101680"/>
            <a:ext cx="860292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292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40880" y="2101680"/>
            <a:ext cx="419796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49080" y="2101680"/>
            <a:ext cx="419796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292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740880" y="555120"/>
            <a:ext cx="8602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292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40880" y="2101680"/>
            <a:ext cx="419796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49080" y="2101680"/>
            <a:ext cx="419796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740880" y="4587120"/>
            <a:ext cx="419796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292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0880" y="2101680"/>
            <a:ext cx="860292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A02A1-3C4A-469A-9225-9D5634FFA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292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40880" y="2101680"/>
            <a:ext cx="419796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49080" y="2101680"/>
            <a:ext cx="419796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49080" y="4587120"/>
            <a:ext cx="419796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292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40880" y="2101680"/>
            <a:ext cx="419796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49080" y="2101680"/>
            <a:ext cx="419796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740880" y="4587120"/>
            <a:ext cx="860292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292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40880" y="2101680"/>
            <a:ext cx="860292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740880" y="4587120"/>
            <a:ext cx="860292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292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40880" y="2101680"/>
            <a:ext cx="419796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49080" y="2101680"/>
            <a:ext cx="419796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40880" y="4587120"/>
            <a:ext cx="419796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49080" y="4587120"/>
            <a:ext cx="419796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292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40880" y="2101680"/>
            <a:ext cx="276984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649680" y="2101680"/>
            <a:ext cx="276984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558480" y="2101680"/>
            <a:ext cx="276984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740880" y="4587120"/>
            <a:ext cx="276984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649680" y="4587120"/>
            <a:ext cx="276984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558480" y="4587120"/>
            <a:ext cx="276984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292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740880" y="2101680"/>
            <a:ext cx="860292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292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40880" y="2101680"/>
            <a:ext cx="860292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292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40880" y="2101680"/>
            <a:ext cx="419796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149080" y="2101680"/>
            <a:ext cx="419796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292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292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0880" y="2101680"/>
            <a:ext cx="860292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4D657-C6D8-4D8F-B43D-A5BCABAA6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740880" y="555120"/>
            <a:ext cx="8602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292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40880" y="2101680"/>
            <a:ext cx="419796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49080" y="2101680"/>
            <a:ext cx="419796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740880" y="4587120"/>
            <a:ext cx="419796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292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40880" y="2101680"/>
            <a:ext cx="419796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49080" y="2101680"/>
            <a:ext cx="419796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149080" y="4587120"/>
            <a:ext cx="419796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292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40880" y="2101680"/>
            <a:ext cx="419796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49080" y="2101680"/>
            <a:ext cx="419796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740880" y="4587120"/>
            <a:ext cx="860292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292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40880" y="2101680"/>
            <a:ext cx="860292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740880" y="4587120"/>
            <a:ext cx="860292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292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40880" y="2101680"/>
            <a:ext cx="419796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149080" y="2101680"/>
            <a:ext cx="419796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740880" y="4587120"/>
            <a:ext cx="419796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149080" y="4587120"/>
            <a:ext cx="419796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292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40880" y="2101680"/>
            <a:ext cx="276984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649680" y="2101680"/>
            <a:ext cx="276984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558480" y="2101680"/>
            <a:ext cx="276984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740880" y="4587120"/>
            <a:ext cx="276984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649680" y="4587120"/>
            <a:ext cx="276984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558480" y="4587120"/>
            <a:ext cx="276984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292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0880" y="2101680"/>
            <a:ext cx="419796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2101680"/>
            <a:ext cx="419796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319AB-FB5A-464B-B095-B2861F51B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292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DA588-4089-4C6A-8586-1D012C34A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0880" y="555120"/>
            <a:ext cx="8602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E82EE-E149-4106-AF0C-22D30B913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292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0880" y="2101680"/>
            <a:ext cx="419796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2101680"/>
            <a:ext cx="419796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0880" y="4587120"/>
            <a:ext cx="419796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E7F5A-7814-49C1-B494-1B63F81AF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292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0880" y="2101680"/>
            <a:ext cx="419796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2101680"/>
            <a:ext cx="419796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587120"/>
            <a:ext cx="419796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2720F-049B-4D3E-BD1D-D0224F127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292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0880" y="2101680"/>
            <a:ext cx="419796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2101680"/>
            <a:ext cx="419796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0880" y="4587120"/>
            <a:ext cx="860292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6C569-0D99-4165-869D-13762D506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FC90F55-5B40-4803-BA96-8DBEFAC52728}" type="slidenum"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40880" y="282600"/>
            <a:ext cx="860292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4000" spc="-1" strike="noStrike">
                <a:solidFill>
                  <a:srgbClr val="ff9966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40880" y="1963440"/>
            <a:ext cx="876780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1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2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3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4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5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6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43" name="AutoShape 3"/>
          <p:cNvSpPr/>
          <p:nvPr/>
        </p:nvSpPr>
        <p:spPr>
          <a:xfrm>
            <a:off x="723960" y="7077240"/>
            <a:ext cx="9354960" cy="96840"/>
          </a:xfrm>
          <a:prstGeom prst="roundRect">
            <a:avLst>
              <a:gd name="adj" fmla="val 1667"/>
            </a:avLst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AutoShape 4"/>
          <p:cNvSpPr/>
          <p:nvPr/>
        </p:nvSpPr>
        <p:spPr>
          <a:xfrm>
            <a:off x="1987560" y="7289640"/>
            <a:ext cx="8091360" cy="96840"/>
          </a:xfrm>
          <a:prstGeom prst="roundRect">
            <a:avLst>
              <a:gd name="adj" fmla="val 1667"/>
            </a:avLst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AutoShape 1"/>
          <p:cNvSpPr/>
          <p:nvPr/>
        </p:nvSpPr>
        <p:spPr>
          <a:xfrm>
            <a:off x="404640" y="1893960"/>
            <a:ext cx="9674280" cy="5665680"/>
          </a:xfrm>
          <a:prstGeom prst="roundRect">
            <a:avLst>
              <a:gd name="adj" fmla="val 28"/>
            </a:avLst>
          </a:prstGeom>
          <a:solidFill>
            <a:srgbClr val="dddddd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292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740880" y="2101680"/>
            <a:ext cx="860292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4"/>
          <p:cNvSpPr/>
          <p:nvPr/>
        </p:nvSpPr>
        <p:spPr>
          <a:xfrm>
            <a:off x="0" y="0"/>
            <a:ext cx="181080" cy="917640"/>
          </a:xfrm>
          <a:custGeom>
            <a:avLst/>
            <a:gdLst>
              <a:gd name="textAreaLeft" fmla="*/ 360 w 181080"/>
              <a:gd name="textAreaRight" fmla="*/ 180720 w 181080"/>
              <a:gd name="textAreaTop" fmla="*/ 360 h 917640"/>
              <a:gd name="textAreaBottom" fmla="*/ 917280 h 917640"/>
            </a:gdLst>
            <a:ahLst/>
            <a:rect l="textAreaLeft" t="textAreaTop" r="textAreaRight" b="textAreaBottom"/>
            <a:pathLst>
              <a:path w="21600" h="109286">
                <a:moveTo>
                  <a:pt x="189" y="0"/>
                </a:moveTo>
                <a:arcTo wR="189" hR="189" stAng="16200000" swAng="-5400000"/>
                <a:lnTo>
                  <a:pt x="0" y="109097"/>
                </a:lnTo>
                <a:arcTo wR="189" hR="189" stAng="10800000" swAng="-5400000"/>
                <a:lnTo>
                  <a:pt x="21411" y="109286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AutoShape 5"/>
          <p:cNvSpPr/>
          <p:nvPr/>
        </p:nvSpPr>
        <p:spPr>
          <a:xfrm>
            <a:off x="0" y="2381400"/>
            <a:ext cx="181080" cy="917280"/>
          </a:xfrm>
          <a:custGeom>
            <a:avLst/>
            <a:gdLst>
              <a:gd name="textAreaLeft" fmla="*/ 360 w 181080"/>
              <a:gd name="textAreaRight" fmla="*/ 180720 w 181080"/>
              <a:gd name="textAreaTop" fmla="*/ 360 h 917280"/>
              <a:gd name="textAreaBottom" fmla="*/ 916920 h 917280"/>
            </a:gdLst>
            <a:ahLst/>
            <a:rect l="textAreaLeft" t="textAreaTop" r="textAreaRight" b="textAreaBottom"/>
            <a:pathLst>
              <a:path w="21600" h="109243">
                <a:moveTo>
                  <a:pt x="189" y="0"/>
                </a:moveTo>
                <a:arcTo wR="189" hR="189" stAng="16200000" swAng="-5400000"/>
                <a:lnTo>
                  <a:pt x="0" y="109054"/>
                </a:lnTo>
                <a:arcTo wR="189" hR="189" stAng="10800000" swAng="-5400000"/>
                <a:lnTo>
                  <a:pt x="21411" y="109243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AutoShape 6"/>
          <p:cNvSpPr/>
          <p:nvPr/>
        </p:nvSpPr>
        <p:spPr>
          <a:xfrm>
            <a:off x="0" y="1168560"/>
            <a:ext cx="181080" cy="917280"/>
          </a:xfrm>
          <a:custGeom>
            <a:avLst/>
            <a:gdLst>
              <a:gd name="textAreaLeft" fmla="*/ 360 w 181080"/>
              <a:gd name="textAreaRight" fmla="*/ 180720 w 181080"/>
              <a:gd name="textAreaTop" fmla="*/ 360 h 917280"/>
              <a:gd name="textAreaBottom" fmla="*/ 916920 h 917280"/>
            </a:gdLst>
            <a:ahLst/>
            <a:rect l="textAreaLeft" t="textAreaTop" r="textAreaRight" b="textAreaBottom"/>
            <a:pathLst>
              <a:path w="21600" h="109243">
                <a:moveTo>
                  <a:pt x="189" y="0"/>
                </a:moveTo>
                <a:arcTo wR="189" hR="189" stAng="16200000" swAng="-5400000"/>
                <a:lnTo>
                  <a:pt x="0" y="109054"/>
                </a:lnTo>
                <a:arcTo wR="189" hR="189" stAng="10800000" swAng="-5400000"/>
                <a:lnTo>
                  <a:pt x="21411" y="109243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420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fr-FR" sz="5400" spc="-1" strike="noStrike">
                <a:solidFill>
                  <a:srgbClr val="333333"/>
                </a:solidFill>
                <a:latin typeface="Times New Roman"/>
              </a:rPr>
              <a:t>Stratford </a:t>
            </a:r>
            <a:endParaRPr b="1" lang="en-US" sz="5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741240" y="2146320"/>
            <a:ext cx="8607600" cy="4672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ctr">
            <a:noAutofit/>
          </a:bodyPr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Statford-upon-Avon is Shakespeare's town. He was born on the 23rd of April 1564 and he died on the 23rd of April 1616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3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4400" spc="-1" strike="noStrike">
                <a:solidFill>
                  <a:srgbClr val="333333"/>
                </a:solidFill>
                <a:latin typeface="Arial"/>
              </a:rPr>
              <a:t>The bridge 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50" name="Picture 2" descr=""/>
          <p:cNvPicPr/>
          <p:nvPr/>
        </p:nvPicPr>
        <p:blipFill>
          <a:blip r:embed="rId1"/>
          <a:stretch/>
        </p:blipFill>
        <p:spPr>
          <a:xfrm>
            <a:off x="5151600" y="2519280"/>
            <a:ext cx="4568760" cy="353700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4200480" cy="49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24440" indent="-320760">
              <a:lnSpc>
                <a:spcPct val="117000"/>
              </a:lnSpc>
              <a:spcAft>
                <a:spcPts val="1426"/>
              </a:spcAft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This is a picture of the group on the brid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4440" indent="0">
              <a:lnSpc>
                <a:spcPct val="117000"/>
              </a:lnSpc>
              <a:spcAft>
                <a:spcPts val="1426"/>
              </a:spcAft>
              <a:buNone/>
              <a:tabLst>
                <a:tab algn="l" pos="0"/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4440" indent="0">
              <a:lnSpc>
                <a:spcPct val="117000"/>
              </a:lnSpc>
              <a:spcAft>
                <a:spcPts val="1426"/>
              </a:spcAft>
              <a:buNone/>
              <a:tabLst>
                <a:tab algn="l" pos="0"/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4440" indent="0">
              <a:lnSpc>
                <a:spcPct val="117000"/>
              </a:lnSpc>
              <a:spcAft>
                <a:spcPts val="1426"/>
              </a:spcAft>
              <a:buNone/>
              <a:tabLst>
                <a:tab algn="l" pos="0"/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4440" indent="0">
              <a:lnSpc>
                <a:spcPct val="117000"/>
              </a:lnSpc>
              <a:spcAft>
                <a:spcPts val="1426"/>
              </a:spcAft>
              <a:buNone/>
              <a:tabLst>
                <a:tab algn="l" pos="0"/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4440" indent="0">
              <a:lnSpc>
                <a:spcPct val="117000"/>
              </a:lnSpc>
              <a:spcAft>
                <a:spcPts val="1426"/>
              </a:spcAft>
              <a:buNone/>
              <a:tabLst>
                <a:tab algn="l" pos="0"/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4440" indent="0">
              <a:lnSpc>
                <a:spcPct val="117000"/>
              </a:lnSpc>
              <a:spcAft>
                <a:spcPts val="1426"/>
              </a:spcAft>
              <a:buNone/>
              <a:tabLst>
                <a:tab algn="l" pos="0"/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This diapo was created by Nolwenn and Lauri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3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00000" y="539280"/>
            <a:ext cx="860760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4400" spc="-1" strike="noStrike">
                <a:solidFill>
                  <a:srgbClr val="333333"/>
                </a:solidFill>
                <a:latin typeface="Arial"/>
              </a:rPr>
              <a:t>The Street Signs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4200480" cy="46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117000"/>
              </a:lnSpc>
              <a:spcAft>
                <a:spcPts val="1426"/>
              </a:spcAft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It is an English street sign, where you can see four famous towns. On this sign  we can read « Miles , Hours and Locks 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0">
              <a:lnSpc>
                <a:spcPct val="117000"/>
              </a:lnSpc>
              <a:spcAft>
                <a:spcPts val="1426"/>
              </a:spcAft>
              <a:buNone/>
              <a:tabLst>
                <a:tab algn="l" pos="0"/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(a lock is une éclus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3" descr=""/>
          <p:cNvPicPr/>
          <p:nvPr/>
        </p:nvPicPr>
        <p:blipFill>
          <a:blip r:embed="rId1"/>
          <a:stretch/>
        </p:blipFill>
        <p:spPr>
          <a:xfrm>
            <a:off x="5465880" y="1979640"/>
            <a:ext cx="3714480" cy="488304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3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4400" spc="-1" strike="noStrike">
                <a:solidFill>
                  <a:srgbClr val="333333"/>
                </a:solidFill>
                <a:latin typeface="Arial"/>
              </a:rPr>
              <a:t>The canal 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151600" y="2101680"/>
            <a:ext cx="420048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117000"/>
              </a:lnSpc>
              <a:spcAft>
                <a:spcPts val="1426"/>
              </a:spcAft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In this picture you can see  Stratford's canal , and boats. The canal was created in 179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3" descr=""/>
          <p:cNvPicPr/>
          <p:nvPr/>
        </p:nvPicPr>
        <p:blipFill>
          <a:blip r:embed="rId1"/>
          <a:stretch/>
        </p:blipFill>
        <p:spPr>
          <a:xfrm>
            <a:off x="539640" y="2879640"/>
            <a:ext cx="4500720" cy="341964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3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4400" spc="-1" strike="noStrike">
                <a:solidFill>
                  <a:srgbClr val="333333"/>
                </a:solidFill>
                <a:latin typeface="Arial"/>
              </a:rPr>
              <a:t>Shakespeare 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2" name="Picture 2" descr=""/>
          <p:cNvPicPr/>
          <p:nvPr/>
        </p:nvPicPr>
        <p:blipFill>
          <a:blip r:embed="rId1"/>
          <a:stretch/>
        </p:blipFill>
        <p:spPr>
          <a:xfrm>
            <a:off x="5465880" y="1979640"/>
            <a:ext cx="3894120" cy="488304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420048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117000"/>
              </a:lnSpc>
              <a:spcAft>
                <a:spcPts val="1426"/>
              </a:spcAft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It's the statue of William Shakespeare. William was the writer who wrote a lot of plays such as Romeo and Juliet , Macbeth, Hamlet . . .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3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4400" spc="-1" strike="noStrike">
                <a:solidFill>
                  <a:srgbClr val="333333"/>
                </a:solidFill>
                <a:latin typeface="Arial"/>
              </a:rPr>
              <a:t>Boats 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151600" y="2101680"/>
            <a:ext cx="420048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You can see boats and a lake and in the background the tow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3" descr=""/>
          <p:cNvPicPr/>
          <p:nvPr/>
        </p:nvPicPr>
        <p:blipFill>
          <a:blip r:embed="rId1"/>
          <a:stretch/>
        </p:blipFill>
        <p:spPr>
          <a:xfrm>
            <a:off x="539640" y="2700360"/>
            <a:ext cx="4478400" cy="335772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3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4400" spc="-1" strike="noStrike">
                <a:solidFill>
                  <a:srgbClr val="333333"/>
                </a:solidFill>
                <a:latin typeface="Arial"/>
              </a:rPr>
              <a:t>A barge 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8" name="Picture 2" descr=""/>
          <p:cNvPicPr/>
          <p:nvPr/>
        </p:nvPicPr>
        <p:blipFill>
          <a:blip r:embed="rId1"/>
          <a:stretch/>
        </p:blipFill>
        <p:spPr>
          <a:xfrm>
            <a:off x="5219640" y="2700360"/>
            <a:ext cx="4319640" cy="341640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420048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117000"/>
              </a:lnSpc>
              <a:spcAft>
                <a:spcPts val="1426"/>
              </a:spcAft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In this picture you can see a barge where people live. They are decorated with stars.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3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4400" spc="-1" strike="noStrike">
                <a:solidFill>
                  <a:srgbClr val="333333"/>
                </a:solidFill>
                <a:latin typeface="Arial"/>
              </a:rPr>
              <a:t>A Lock 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151600" y="2101680"/>
            <a:ext cx="420048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117000"/>
              </a:lnSpc>
              <a:spcAft>
                <a:spcPts val="1426"/>
              </a:spcAft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This is a beautiful Lo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3" descr=""/>
          <p:cNvPicPr/>
          <p:nvPr/>
        </p:nvPicPr>
        <p:blipFill>
          <a:blip r:embed="rId1"/>
          <a:stretch/>
        </p:blipFill>
        <p:spPr>
          <a:xfrm>
            <a:off x="741240" y="2908440"/>
            <a:ext cx="4200480" cy="314964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3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4400" spc="-1" strike="noStrike">
                <a:solidFill>
                  <a:srgbClr val="333333"/>
                </a:solidFill>
                <a:latin typeface="Arial"/>
              </a:rPr>
              <a:t>People 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5151600" y="2519280"/>
            <a:ext cx="4568760" cy="353700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420048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117000"/>
              </a:lnSpc>
              <a:spcAft>
                <a:spcPts val="1426"/>
              </a:spcAft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You can see people on the bank of the canal.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3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4400" spc="-1" strike="noStrike">
                <a:solidFill>
                  <a:srgbClr val="333333"/>
                </a:solidFill>
                <a:latin typeface="Arial"/>
              </a:rPr>
              <a:t>History of the canal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151600" y="2101680"/>
            <a:ext cx="420048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117000"/>
              </a:lnSpc>
              <a:spcAft>
                <a:spcPts val="1426"/>
              </a:spcAft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This is the history of the canal where you can see the date of creation, and the dates of the historic moments about the can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3" descr=""/>
          <p:cNvPicPr/>
          <p:nvPr/>
        </p:nvPicPr>
        <p:blipFill>
          <a:blip r:embed="rId1"/>
          <a:stretch/>
        </p:blipFill>
        <p:spPr>
          <a:xfrm>
            <a:off x="1055520" y="2101680"/>
            <a:ext cx="3571920" cy="47628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3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4T07:16:18Z</dcterms:created>
  <dc:creator>Sabine Duchenne</dc:creator>
  <dc:description/>
  <dc:language>en-US</dc:language>
  <cp:lastModifiedBy>Sabine Duchenne</cp:lastModifiedBy>
  <dcterms:modified xsi:type="dcterms:W3CDTF">2010-06-09T16:59:51Z</dcterms:modified>
  <cp:revision>7</cp:revision>
  <dc:subject/>
  <dc:title>Stratford</dc:title>
</cp:coreProperties>
</file>