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6E36-557A-4C70-94A5-3118136F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3880" y="148896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3880" y="369792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FDCE-B062-4737-B4BA-DA61158E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3880" y="148896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7200" y="148896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3880" y="369792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7200" y="369792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8276-4032-4782-B51A-076F0BA8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3880" y="148896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3000" y="148896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2120" y="148896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3880" y="369792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3000" y="369792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2120" y="369792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BF0D-055D-4D6A-8C1A-05C38F73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13880" y="1488960"/>
            <a:ext cx="84567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13880" y="1488960"/>
            <a:ext cx="84567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13880" y="148896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47200" y="148896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14240" y="214200"/>
            <a:ext cx="829800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3880" y="148896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7200" y="148896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13880" y="369792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3880" y="1488960"/>
            <a:ext cx="84567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3F2-37CC-48FD-8EF3-6E509D6C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3880" y="148896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7200" y="148896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47200" y="369792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3880" y="148896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7200" y="148896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13880" y="369792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13880" y="148896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13880" y="369792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3880" y="148896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7200" y="148896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13880" y="369792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47200" y="369792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13880" y="148896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73000" y="148896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32120" y="148896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13880" y="369792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73000" y="369792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32120" y="369792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3880" y="1488960"/>
            <a:ext cx="84567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891D-B857-4FD5-B82B-C62169F9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3880" y="148896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7200" y="148896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753E-7A48-44F4-BFDA-83F9D044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6E4-B041-4135-8972-B7487563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214200"/>
            <a:ext cx="829800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BD97-602F-4B24-9880-9EF2D990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3880" y="148896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7200" y="148896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3880" y="369792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E5D3-B11A-4390-A0F2-9A99D663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3880" y="148896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7200" y="148896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7200" y="369792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4A86-8325-4CBD-A5E4-81183640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3880" y="148896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7200" y="148896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3880" y="369792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7297-E0E6-41A3-8B8F-4FA7114B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174240"/>
            <a:ext cx="87440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6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780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604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43568F-EB79-489E-9E0B-DEB17B3482D1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13880" y="1488960"/>
            <a:ext cx="84567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7000"/>
          </a:bodyPr>
          <a:p>
            <a:pPr marL="33264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32640" indent="-332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32640" indent="-332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32640" indent="-332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32640" indent="-332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32640" indent="-332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32640" indent="-332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698400" y="6066000"/>
            <a:ext cx="9020160" cy="82440"/>
          </a:xfrm>
          <a:prstGeom prst="roundRect">
            <a:avLst>
              <a:gd name="adj" fmla="val 192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1916280" y="6248520"/>
            <a:ext cx="7802280" cy="82440"/>
          </a:xfrm>
          <a:prstGeom prst="roundRect">
            <a:avLst>
              <a:gd name="adj" fmla="val 192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4000" spc="-1" strike="noStrike">
                <a:solidFill>
                  <a:srgbClr val="ff9966"/>
                </a:solidFill>
                <a:latin typeface="Arial"/>
              </a:rPr>
              <a:t>Wembley Stadium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539640" y="1440000"/>
            <a:ext cx="4302360" cy="3713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47920" y="1488600"/>
            <a:ext cx="412740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6e6e6"/>
                </a:solidFill>
                <a:latin typeface="Times New Roman"/>
              </a:rPr>
              <a:t>These are the jerseys of the English football team. These are James, Johnson and A.Cole's Jersey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539640" y="2160720"/>
            <a:ext cx="5040360" cy="3600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052600" y="898200"/>
            <a:ext cx="41274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6e6e6"/>
                </a:solidFill>
                <a:latin typeface="Times New Roman"/>
              </a:rPr>
              <a:t>The players can have a bath 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52320" y="2143080"/>
            <a:ext cx="5040360" cy="36003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052600" y="720360"/>
            <a:ext cx="41274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6e6e6"/>
                </a:solidFill>
                <a:latin typeface="Times New Roman"/>
              </a:rPr>
              <a:t>… </a:t>
            </a:r>
            <a:r>
              <a:rPr b="0" lang="fr-FR" sz="3200" spc="-1" strike="noStrike">
                <a:solidFill>
                  <a:srgbClr val="e6e6e6"/>
                </a:solidFill>
                <a:latin typeface="Times New Roman"/>
              </a:rPr>
              <a:t>or a shower according to their choic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539640" y="1379520"/>
            <a:ext cx="4757760" cy="34815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052600" y="899640"/>
            <a:ext cx="41274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6e6e6"/>
                </a:solidFill>
                <a:latin typeface="Times New Roman"/>
              </a:rPr>
              <a:t>This is the conference room where players are interviewed by journalists.   We can see ads behind the players and the coach, a TV and a glass of cok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539640" y="1333440"/>
            <a:ext cx="4680000" cy="3527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040000" y="899640"/>
            <a:ext cx="41274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6e6e6"/>
                </a:solidFill>
                <a:latin typeface="Times New Roman"/>
              </a:rPr>
              <a:t>Miss Duhayon, Sacha, Jules and Thibault were photographed by Josselyn in front of a poster of Rooney and Terry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179280" y="1800360"/>
            <a:ext cx="5219640" cy="3958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040000" y="900000"/>
            <a:ext cx="41274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6e6e6"/>
                </a:solidFill>
                <a:latin typeface="Times New Roman"/>
              </a:rPr>
              <a:t>After an exhausting match, they can have a massag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2160720" y="2340000"/>
            <a:ext cx="5580000" cy="36003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700000" y="360000"/>
            <a:ext cx="41274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6e6e6"/>
                </a:solidFill>
                <a:latin typeface="Times New Roman"/>
              </a:rPr>
              <a:t>This is the FA cup and behind the FA cup, we can see the pitch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4140360" y="1979640"/>
            <a:ext cx="5387760" cy="3995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72960" y="360000"/>
            <a:ext cx="41277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6e6e6"/>
                </a:solidFill>
                <a:latin typeface="Times New Roman"/>
              </a:rPr>
              <a:t>This is the changing room of the English team, it's very larg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179280" y="66600"/>
            <a:ext cx="5219640" cy="42530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400360" y="3060360"/>
            <a:ext cx="412740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6e6e6"/>
                </a:solidFill>
                <a:latin typeface="Times New Roman"/>
              </a:rPr>
              <a:t>This is the VIP hall for  celebrities and the Royal Family. We can see a lot of beautiful TVs and chairs. It's luxuriou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07:23:54Z</dcterms:created>
  <dc:creator>Sabine Duchenne</dc:creator>
  <dc:description/>
  <dc:language>en-US</dc:language>
  <cp:lastModifiedBy>Sabine Duchenne</cp:lastModifiedBy>
  <dcterms:modified xsi:type="dcterms:W3CDTF">2010-06-09T17:02:13Z</dcterms:modified>
  <cp:revision>8</cp:revision>
  <dc:subject/>
  <dc:title>Wembley Stadium</dc:title>
</cp:coreProperties>
</file>