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1DE0-08D2-4C23-AA9B-E562FE65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3880" y="148896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3880" y="369792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47D5-5C6F-4D29-BDCB-CC480ACB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3880" y="148896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7200" y="148896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3880" y="369792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7200" y="369792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3A04-3034-4E45-8EB9-D310D384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3880" y="148896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3000" y="148896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2120" y="148896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3880" y="369792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3000" y="369792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2120" y="369792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F8E1-590E-447F-9DF9-1E539F81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13880" y="1488960"/>
            <a:ext cx="84567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13880" y="1488960"/>
            <a:ext cx="84567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13880" y="148896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47200" y="148896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14240" y="214200"/>
            <a:ext cx="829800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3880" y="148896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7200" y="148896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13880" y="369792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3880" y="1488960"/>
            <a:ext cx="84567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A82B-A7A1-4013-B058-7E80DD0F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3880" y="148896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7200" y="148896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47200" y="369792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3880" y="148896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7200" y="148896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13880" y="369792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13880" y="148896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13880" y="369792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3880" y="148896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7200" y="148896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13880" y="369792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47200" y="369792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13880" y="148896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73000" y="148896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32120" y="148896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13880" y="369792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73000" y="369792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32120" y="369792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3880" y="1488960"/>
            <a:ext cx="84567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5774-B2C4-49A3-B578-747079D4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3880" y="148896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7200" y="148896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CE91-40B8-47EB-96C9-7A6B4226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1860-B84B-4667-B8BA-AEF60DB5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214200"/>
            <a:ext cx="829800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211F-5A12-4614-913C-958B9A97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3880" y="148896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7200" y="148896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3880" y="369792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A6F-C1B1-4D36-B002-32B08301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3880" y="148896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7200" y="148896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7200" y="369792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0EA9-D126-4F18-AE0E-6F760AE8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3880" y="148896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7200" y="148896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3880" y="369792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9E3D-CD24-495B-9FAF-4D179898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174240"/>
            <a:ext cx="87440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6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780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604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A6095A-A9C4-441B-834D-7AA3FF5DEB1A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980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13880" y="1488960"/>
            <a:ext cx="84567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7000"/>
          </a:bodyPr>
          <a:p>
            <a:pPr marL="33264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32640" indent="-332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32640" indent="-332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32640" indent="-332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32640" indent="-332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32640" indent="-332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32640" indent="-332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698400" y="6066000"/>
            <a:ext cx="9020160" cy="82440"/>
          </a:xfrm>
          <a:prstGeom prst="roundRect">
            <a:avLst>
              <a:gd name="adj" fmla="val 192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1916280" y="6248520"/>
            <a:ext cx="7802280" cy="82440"/>
          </a:xfrm>
          <a:prstGeom prst="roundRect">
            <a:avLst>
              <a:gd name="adj" fmla="val 192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4000" spc="-1" strike="noStrike">
                <a:solidFill>
                  <a:srgbClr val="ff9966"/>
                </a:solidFill>
                <a:latin typeface="Arial"/>
              </a:rPr>
              <a:t>Wembley Stadium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539640" y="1440000"/>
            <a:ext cx="4302360" cy="3713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47920" y="1488600"/>
            <a:ext cx="412740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6e6e6"/>
                </a:solidFill>
                <a:latin typeface="Times New Roman"/>
              </a:rPr>
              <a:t>These are the jerseys of the English football team. These are James, Johnson and A.Cole's Jersey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539640" y="2160720"/>
            <a:ext cx="5040360" cy="3600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052600" y="898200"/>
            <a:ext cx="41274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6e6e6"/>
                </a:solidFill>
                <a:latin typeface="Times New Roman"/>
              </a:rPr>
              <a:t>The players can have a bath 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52320" y="2143080"/>
            <a:ext cx="5040360" cy="36003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052600" y="720360"/>
            <a:ext cx="41274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6e6e6"/>
                </a:solidFill>
                <a:latin typeface="Times New Roman"/>
              </a:rPr>
              <a:t>… </a:t>
            </a:r>
            <a:r>
              <a:rPr b="0" lang="fr-FR" sz="3200" spc="-1" strike="noStrike">
                <a:solidFill>
                  <a:srgbClr val="e6e6e6"/>
                </a:solidFill>
                <a:latin typeface="Times New Roman"/>
              </a:rPr>
              <a:t>or a shower according to their choic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539640" y="1379520"/>
            <a:ext cx="4757760" cy="34815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052600" y="899640"/>
            <a:ext cx="41274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6e6e6"/>
                </a:solidFill>
                <a:latin typeface="Times New Roman"/>
              </a:rPr>
              <a:t>This is the conference room where players are interviewed by journalists.   We can see ads behind the players and the coach, a TV and a glass of cok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539640" y="1333440"/>
            <a:ext cx="4680000" cy="3527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040000" y="899640"/>
            <a:ext cx="41274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6e6e6"/>
                </a:solidFill>
                <a:latin typeface="Times New Roman"/>
              </a:rPr>
              <a:t>Miss Duhayon, Sacha, Jules and Thibault were photographed by Josselyn in front of a poster of Rooney and Terry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179280" y="1800360"/>
            <a:ext cx="5219640" cy="3958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040000" y="900000"/>
            <a:ext cx="41274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6e6e6"/>
                </a:solidFill>
                <a:latin typeface="Times New Roman"/>
              </a:rPr>
              <a:t>After an exhausting match, they can have a massag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2160720" y="2340000"/>
            <a:ext cx="5580000" cy="36003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700000" y="360000"/>
            <a:ext cx="41274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6e6e6"/>
                </a:solidFill>
                <a:latin typeface="Times New Roman"/>
              </a:rPr>
              <a:t>This is the FA cup and behind the FA cup, we can see the pitch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4140360" y="1979640"/>
            <a:ext cx="5387760" cy="3995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72960" y="360000"/>
            <a:ext cx="41277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6e6e6"/>
                </a:solidFill>
                <a:latin typeface="Times New Roman"/>
              </a:rPr>
              <a:t>This is the changing room of the English team, it's very larg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179280" y="66600"/>
            <a:ext cx="5219640" cy="42530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400360" y="3060360"/>
            <a:ext cx="412740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6e6e6"/>
                </a:solidFill>
                <a:latin typeface="Times New Roman"/>
              </a:rPr>
              <a:t>This is the VIP hall for  celebrities and the Royal Family. We can see a lot of beautiful TVs and chairs. It's luxuriou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07:23:54Z</dcterms:created>
  <dc:creator>Sabine Duchenne</dc:creator>
  <dc:description/>
  <dc:language>en-US</dc:language>
  <cp:lastModifiedBy>Sabine Duchenne</cp:lastModifiedBy>
  <dcterms:modified xsi:type="dcterms:W3CDTF">2010-06-09T17:02:13Z</dcterms:modified>
  <cp:revision>8</cp:revision>
  <dc:subject/>
  <dc:title>Wembley Stadium</dc:title>
</cp:coreProperties>
</file>