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D95-7E3D-4D31-A99D-74C23889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CE0-99A7-430D-ABFE-589A4266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913-E3D7-4024-A68C-DA41034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664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48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380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664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48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184-CD27-4412-82EA-4DC79CBA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4240" y="600120"/>
            <a:ext cx="829656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2DF-B2C7-473F-BE52-30E3DAD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664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79480" y="183204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9380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664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79480" y="3962160"/>
            <a:ext cx="26118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844-B816-48E8-A9ED-5EEDFC95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463-04CE-42B1-A806-52EBB75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8DC-B361-4FFB-BDD6-D4598F1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0120"/>
            <a:ext cx="829656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F11-136B-4B89-B92B-6ABDFEFE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C06-2C7D-497F-AABB-277A4CB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720" y="396216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EE9-358C-40B5-B11B-06D0C7B7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720" y="1832040"/>
            <a:ext cx="395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3800" y="3962160"/>
            <a:ext cx="811224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08F-FCBF-42B2-BCAD-CB79044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2800"/>
            <a:ext cx="87426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26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6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59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B15FEF-A388-4627-BC3A-3B7E2D57D1A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829656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93800" y="1832040"/>
            <a:ext cx="81122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 u="sng">
                <a:solidFill>
                  <a:srgbClr val="99284c"/>
                </a:solidFill>
                <a:uFillTx/>
                <a:latin typeface="Broadway"/>
              </a:rPr>
              <a:t>Christ Church Colleg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These are Christ Church college's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Garden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Students can play cricket there</a:t>
            </a:r>
            <a:r>
              <a:rPr b="0" lang="fr-FR" sz="3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951440" y="238752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14240" y="644400"/>
            <a:ext cx="82994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99284c"/>
                </a:solidFill>
                <a:latin typeface="Broadway"/>
              </a:rPr>
              <a:t>THE END 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99284c"/>
                </a:solidFill>
                <a:latin typeface="Broadway"/>
              </a:rPr>
              <a:t>Anaïs &amp; Agat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0680" y="583920"/>
            <a:ext cx="4033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Tom's Quad.It's reserved for students who study in Christ Church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89640" y="1662120"/>
            <a:ext cx="441144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900000"/>
            <a:ext cx="42134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Visitors must keep off the grass because around this garden, there are dorms for students</a:t>
            </a:r>
            <a:r>
              <a:rPr b="0" lang="fr-FR" sz="4000" spc="-1" strike="noStrike">
                <a:solidFill>
                  <a:srgbClr val="333333"/>
                </a:solidFill>
                <a:latin typeface="Broadway"/>
              </a:rPr>
              <a:t>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68920" y="1662120"/>
            <a:ext cx="42307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744480"/>
            <a:ext cx="40338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a view of Meadow college from accross Christ Church colleg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680000" y="1800360"/>
            <a:ext cx="423396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45840" y="565200"/>
            <a:ext cx="40338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is is a picture of th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College's Cathedral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ere is a choi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Broadway"/>
              </a:rPr>
              <a:t>This cathedral is often claimed to be the smallest  cathedral in Englan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0000" y="1440000"/>
            <a:ext cx="414180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3959280" y="720720"/>
            <a:ext cx="485928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539640" y="720720"/>
            <a:ext cx="341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Inside the Cathedral we could see a stained glass window of St Fridesw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280" y="720360"/>
            <a:ext cx="41403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This is a gate of the college and over the gate,  we can see the emblem of the colleg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003640" y="954000"/>
            <a:ext cx="3602160" cy="4473720"/>
          </a:xfrm>
          <a:prstGeom prst="rect">
            <a:avLst/>
          </a:prstGeom>
          <a:ln w="0">
            <a:noFill/>
          </a:ln>
        </p:spPr>
      </p:pic>
      <p:cxnSp>
        <p:nvCxnSpPr>
          <p:cNvPr id="100" name="Connecteur droit avec flèche 4"/>
          <p:cNvCxnSpPr/>
          <p:nvPr/>
        </p:nvCxnSpPr>
        <p:spPr>
          <a:xfrm flipH="1" flipV="1">
            <a:off x="7146360" y="1953720"/>
            <a:ext cx="857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necteur droit avec flèche 8"/>
          <p:cNvCxnSpPr/>
          <p:nvPr/>
        </p:nvCxnSpPr>
        <p:spPr>
          <a:xfrm flipV="1">
            <a:off x="5432400" y="1953720"/>
            <a:ext cx="5724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403380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is a building of Meadow College : opposite that building, there is the River Tham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767120" y="1662120"/>
            <a:ext cx="423396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720360"/>
            <a:ext cx="421488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333333"/>
                </a:solidFill>
                <a:latin typeface="Broadway"/>
              </a:rPr>
              <a:t>Here we can see a ground and students can go up to the dining hall through a lovely staircase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767120" y="1662120"/>
            <a:ext cx="4233960" cy="3198960"/>
          </a:xfrm>
          <a:prstGeom prst="rect">
            <a:avLst/>
          </a:prstGeom>
          <a:ln w="0">
            <a:noFill/>
          </a:ln>
        </p:spPr>
      </p:pic>
      <p:cxnSp>
        <p:nvCxnSpPr>
          <p:cNvPr id="106" name="Connecteur droit avec flèche 4"/>
          <p:cNvCxnSpPr/>
          <p:nvPr/>
        </p:nvCxnSpPr>
        <p:spPr>
          <a:xfrm flipH="1">
            <a:off x="6574680" y="3525480"/>
            <a:ext cx="2149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37:10Z</dcterms:created>
  <dc:creator>Sabine Duchenne</dc:creator>
  <dc:description/>
  <dc:language>en-US</dc:language>
  <cp:lastModifiedBy>Sabine Duchenne</cp:lastModifiedBy>
  <dcterms:modified xsi:type="dcterms:W3CDTF">2010-06-09T15:03:22Z</dcterms:modified>
  <cp:revision>6</cp:revision>
  <dc:subject/>
  <dc:title>Christ Church College</dc:title>
</cp:coreProperties>
</file>