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DD67D-8F92-4949-8507-A76CE43608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D4CAF-7ADF-4611-B9F0-C464E2DF6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C8CC8-BD44-414F-AF73-55D80C08C5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C2877-6628-4CD5-96FA-F05D9701CB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5DEFB-5F2A-4293-814B-EBA0694A85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F5714-B20D-486D-8FAD-84A4D42FA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0200" cy="40068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D954D-580D-4D66-9E26-3EF9D9670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0200" cy="40068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83A-1B7C-4FB2-9688-C81F0A59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171000"/>
            <a:ext cx="8740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080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6880"/>
            <a:ext cx="874080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965-C12A-43D8-BFDA-58D8AE08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171000"/>
            <a:ext cx="8740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5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4400" y="1515960"/>
            <a:ext cx="4265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6880"/>
            <a:ext cx="4265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4400" y="3746880"/>
            <a:ext cx="4265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68F5-BC69-4025-8317-F7D19319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171000"/>
            <a:ext cx="8740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412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0880" y="1515960"/>
            <a:ext cx="281412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6120" y="1515960"/>
            <a:ext cx="281412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6880"/>
            <a:ext cx="281412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0880" y="3746880"/>
            <a:ext cx="281412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6120" y="3746880"/>
            <a:ext cx="281412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A4E-F420-45E2-ABF9-EA0000AC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171000"/>
            <a:ext cx="8740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08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EF0-C1D4-48AB-83B7-E7E00D5A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171000"/>
            <a:ext cx="8740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08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D79F-25D6-4F9A-84B8-AD5D5BF0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171000"/>
            <a:ext cx="8740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5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4400" y="1515960"/>
            <a:ext cx="4265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15EB-B781-48F7-9729-63E06D7A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171000"/>
            <a:ext cx="8740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079-4928-4D5D-94C2-14B15960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171000"/>
            <a:ext cx="87408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D2A0-BBAD-4F21-9F2E-30C22CF5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171000"/>
            <a:ext cx="8740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5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4400" y="1515960"/>
            <a:ext cx="4265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6880"/>
            <a:ext cx="4265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BE48-E118-4DA4-845B-616AAFF2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171000"/>
            <a:ext cx="8740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5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4400" y="1515960"/>
            <a:ext cx="4265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4400" y="3746880"/>
            <a:ext cx="4265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1BD9-21DC-4C6D-A57B-69001D71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171000"/>
            <a:ext cx="8740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5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4400" y="1515960"/>
            <a:ext cx="4265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6880"/>
            <a:ext cx="874080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9DD-DDAA-465B-B886-DED68E13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171000"/>
            <a:ext cx="8740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08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5903640"/>
            <a:ext cx="225756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3640"/>
            <a:ext cx="307512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3640"/>
            <a:ext cx="22572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EB96FA-0710-4BFA-91ED-F5FA9441625F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4400" spc="-1" strike="noStrike" u="sng">
                <a:solidFill>
                  <a:srgbClr val="993366"/>
                </a:solidFill>
                <a:uFillTx/>
                <a:latin typeface="Arial"/>
              </a:rPr>
              <a:t>The England stre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67280" y="151596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9966cc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9966cc"/>
                </a:solidFill>
                <a:latin typeface="Arial"/>
              </a:rPr>
              <a:t>In a street in Oxford there was a pink and white house. The house was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Espace réservé de l'image de la bibliothèque 7" descr="Ph 086.jpg"/>
          <p:cNvPicPr/>
          <p:nvPr/>
        </p:nvPicPr>
        <p:blipFill>
          <a:blip r:embed="rId1"/>
          <a:stretch/>
        </p:blipFill>
        <p:spPr>
          <a:xfrm>
            <a:off x="485640" y="2054160"/>
            <a:ext cx="42688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3080" y="360360"/>
            <a:ext cx="874692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4400" spc="-1" strike="noStrike" u="sng">
                <a:solidFill>
                  <a:srgbClr val="00b8ff"/>
                </a:solidFill>
                <a:uFillTx/>
                <a:latin typeface="Arial"/>
              </a:rPr>
              <a:t>Phones box</a:t>
            </a:r>
            <a:r>
              <a:rPr b="0" lang="fr-FR" sz="4400" spc="-1" strike="noStrike">
                <a:solidFill>
                  <a:srgbClr val="00b8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Espace réservé de l'image de la bibliothèque 7" descr="Ph 214.jpg"/>
          <p:cNvPicPr/>
          <p:nvPr/>
        </p:nvPicPr>
        <p:blipFill>
          <a:blip r:embed="rId1"/>
          <a:stretch/>
        </p:blipFill>
        <p:spPr>
          <a:xfrm>
            <a:off x="485640" y="205416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67280" y="1515600"/>
            <a:ext cx="42688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99ff"/>
                </a:solidFill>
                <a:latin typeface="Arial"/>
              </a:rPr>
              <a:t>In England the phone boxes are red. The phone box is the emblem of England. There are more phone boxes in England than in France, there is at least a phone box in each stre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640" y="30312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4400" spc="-1" strike="noStrike" u="sng">
                <a:solidFill>
                  <a:srgbClr val="dc2300"/>
                </a:solidFill>
                <a:uFillTx/>
                <a:latin typeface="Arial"/>
              </a:rPr>
              <a:t>London Eye</a:t>
            </a:r>
            <a:r>
              <a:rPr b="0" i="1" lang="fr-FR" sz="4400" spc="-1" strike="noStrike">
                <a:solidFill>
                  <a:srgbClr val="dc2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Espace réservé de l'image de la bibliothèque 7" descr="London Eye.jpg"/>
          <p:cNvPicPr/>
          <p:nvPr/>
        </p:nvPicPr>
        <p:blipFill>
          <a:blip r:embed="rId1"/>
          <a:stretch/>
        </p:blipFill>
        <p:spPr>
          <a:xfrm>
            <a:off x="485640" y="205416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67280" y="1515600"/>
            <a:ext cx="42688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3366"/>
                </a:solidFill>
                <a:latin typeface="Arial"/>
              </a:rPr>
              <a:t>London Eye is the largest wheel in Europe. This wheel never stops turning but it turns slow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640" y="30312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4400" spc="-1" strike="noStrike" u="sng">
                <a:solidFill>
                  <a:srgbClr val="579d1c"/>
                </a:solidFill>
                <a:uFillTx/>
                <a:latin typeface="Arial"/>
              </a:rPr>
              <a:t>Big 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Espace réservé de l'image de la bibliothèque 7" descr="Big Ben.jpg"/>
          <p:cNvPicPr/>
          <p:nvPr/>
        </p:nvPicPr>
        <p:blipFill>
          <a:blip r:embed="rId1"/>
          <a:stretch/>
        </p:blipFill>
        <p:spPr>
          <a:xfrm>
            <a:off x="1015920" y="1515960"/>
            <a:ext cx="3208320" cy="4276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67280" y="1515600"/>
            <a:ext cx="42688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23ff23"/>
                </a:solidFill>
                <a:latin typeface="Arial"/>
              </a:rPr>
              <a:t>We were leaving London when I saw Big Ben ,a famous   monument of England; the tower is at the north of the palace of Westminster. It is a big tower with a famous clock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640" y="174600"/>
            <a:ext cx="874584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4400" spc="-1" strike="noStrike" u="sng">
                <a:solidFill>
                  <a:srgbClr val="9999ff"/>
                </a:solidFill>
                <a:uFillTx/>
                <a:latin typeface="Arial"/>
              </a:rPr>
              <a:t>Letter boxes</a:t>
            </a:r>
            <a:r>
              <a:rPr b="0" lang="fr-FR" sz="44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12920" y="1455840"/>
            <a:ext cx="4267080" cy="430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112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b8ff"/>
                </a:solidFill>
                <a:latin typeface="Arial"/>
              </a:rPr>
              <a:t>The letter boxes in England are red. This letter box is a box where English people can put their m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679320" y="1301760"/>
            <a:ext cx="3335400" cy="44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3080" y="179280"/>
            <a:ext cx="87454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4400" spc="-1" strike="noStrike" u="sng">
                <a:solidFill>
                  <a:srgbClr val="ff6633"/>
                </a:solidFill>
                <a:uFillTx/>
                <a:latin typeface="Arial"/>
              </a:rPr>
              <a:t>Famous Bus</a:t>
            </a:r>
            <a:r>
              <a:rPr b="0" lang="fr-FR" sz="4400" spc="-1" strike="noStrike">
                <a:solidFill>
                  <a:srgbClr val="ff66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03640" y="1168560"/>
            <a:ext cx="4267440" cy="430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4000"/>
          </a:bodyPr>
          <a:p>
            <a:pPr marL="640080" indent="-640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9966"/>
                </a:solidFill>
                <a:latin typeface="Arial"/>
              </a:rPr>
              <a:t>In England the buses are red with 2 decks (they are double deckers). Sometimes the second deck of the bus is an open air deck. The bus in the picture runs in Oxf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mage 6" descr="Ph 099.jpg"/>
          <p:cNvPicPr/>
          <p:nvPr/>
        </p:nvPicPr>
        <p:blipFill>
          <a:blip r:embed="rId1"/>
          <a:stretch/>
        </p:blipFill>
        <p:spPr>
          <a:xfrm>
            <a:off x="858960" y="1239840"/>
            <a:ext cx="3537000" cy="471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2:41:28Z</dcterms:created>
  <dc:creator/>
  <dc:description/>
  <dc:language>en-US</dc:language>
  <cp:lastModifiedBy>danneels</cp:lastModifiedBy>
  <dcterms:modified xsi:type="dcterms:W3CDTF">2010-06-09T10:11:37Z</dcterms:modified>
  <cp:revision>7</cp:revision>
  <dc:subject/>
  <dc:title>The England streets</dc:title>
</cp:coreProperties>
</file>