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CB905-2295-49F9-98C3-8EF39A4FD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DACE6-5CE4-4AA6-A0A0-14E3D3F48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4642A-889B-474A-A6B1-4B2FA4C08F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A7720-77EE-4D20-9F6D-A5F1EAF4AA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6EE7A-6CF6-4DB2-9101-0F3CFB5D9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6BFC7-DB4A-4B48-AE86-809D8E0B2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0200" cy="40068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CD2B9-E03A-4953-BF3A-059BFF6E4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0200" cy="40068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A5AF-5CB8-464E-84C1-2D0B8293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171000"/>
            <a:ext cx="8740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080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6880"/>
            <a:ext cx="874080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7A9-C8C4-470C-9CF6-CE0C3869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171000"/>
            <a:ext cx="8740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5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4400" y="1515960"/>
            <a:ext cx="4265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6880"/>
            <a:ext cx="4265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4400" y="3746880"/>
            <a:ext cx="4265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C9BB-4CA5-4E8F-86FB-E11BBE69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171000"/>
            <a:ext cx="8740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412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0880" y="1515960"/>
            <a:ext cx="281412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6120" y="1515960"/>
            <a:ext cx="281412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6880"/>
            <a:ext cx="281412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0880" y="3746880"/>
            <a:ext cx="281412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6120" y="3746880"/>
            <a:ext cx="281412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0DB-CA52-49A9-82DD-EDD44BA8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171000"/>
            <a:ext cx="8740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08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DA24-0741-4BA0-B3E2-3FCEE313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171000"/>
            <a:ext cx="8740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08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CF1E-FD04-4CEB-B706-5AE14E1C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171000"/>
            <a:ext cx="8740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5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4400" y="1515960"/>
            <a:ext cx="4265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5851-5AD4-46CE-8AC4-3AA8E225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171000"/>
            <a:ext cx="8740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211-B82C-4D76-8DE8-35CF49BC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171000"/>
            <a:ext cx="87408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52E-A4C5-4C4B-8071-74A9A1CA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171000"/>
            <a:ext cx="8740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5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4400" y="1515960"/>
            <a:ext cx="4265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6880"/>
            <a:ext cx="4265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7FC-3864-4377-835C-19408282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171000"/>
            <a:ext cx="8740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5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4400" y="1515960"/>
            <a:ext cx="4265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4400" y="3746880"/>
            <a:ext cx="4265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883-A898-4EC5-9FAE-63EB3DC0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171000"/>
            <a:ext cx="8740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5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4400" y="1515960"/>
            <a:ext cx="4265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6880"/>
            <a:ext cx="874080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CBBF-8C87-4379-A632-71578EF5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171000"/>
            <a:ext cx="8740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08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3640"/>
            <a:ext cx="225756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3640"/>
            <a:ext cx="307512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3640"/>
            <a:ext cx="22572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576FF7-20F8-473B-8F74-5FDAFDC075ED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4400" spc="-1" strike="noStrike" u="sng">
                <a:solidFill>
                  <a:srgbClr val="993366"/>
                </a:solidFill>
                <a:uFillTx/>
                <a:latin typeface="Arial"/>
              </a:rPr>
              <a:t>The England stre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67280" y="151596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9966cc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9966cc"/>
                </a:solidFill>
                <a:latin typeface="Arial"/>
              </a:rPr>
              <a:t>In a street in Oxford there was a pink and white house. The house was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Espace réservé de l'image de la bibliothèque 7" descr="Ph 086.jpg"/>
          <p:cNvPicPr/>
          <p:nvPr/>
        </p:nvPicPr>
        <p:blipFill>
          <a:blip r:embed="rId1"/>
          <a:stretch/>
        </p:blipFill>
        <p:spPr>
          <a:xfrm>
            <a:off x="485640" y="2054160"/>
            <a:ext cx="42688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3080" y="360360"/>
            <a:ext cx="874692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4400" spc="-1" strike="noStrike" u="sng">
                <a:solidFill>
                  <a:srgbClr val="00b8ff"/>
                </a:solidFill>
                <a:uFillTx/>
                <a:latin typeface="Arial"/>
              </a:rPr>
              <a:t>Phones box</a:t>
            </a:r>
            <a:r>
              <a:rPr b="0" lang="fr-FR" sz="4400" spc="-1" strike="noStrike">
                <a:solidFill>
                  <a:srgbClr val="00b8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Espace réservé de l'image de la bibliothèque 7" descr="Ph 214.jpg"/>
          <p:cNvPicPr/>
          <p:nvPr/>
        </p:nvPicPr>
        <p:blipFill>
          <a:blip r:embed="rId1"/>
          <a:stretch/>
        </p:blipFill>
        <p:spPr>
          <a:xfrm>
            <a:off x="485640" y="205416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67280" y="1515600"/>
            <a:ext cx="42688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99ff"/>
                </a:solidFill>
                <a:latin typeface="Arial"/>
              </a:rPr>
              <a:t>In England the phone boxes are red. The phone box is the emblem of England. There are more phone boxes in England than in France, there is at least a phone box in each stre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640" y="30312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4400" spc="-1" strike="noStrike" u="sng">
                <a:solidFill>
                  <a:srgbClr val="dc2300"/>
                </a:solidFill>
                <a:uFillTx/>
                <a:latin typeface="Arial"/>
              </a:rPr>
              <a:t>London Eye</a:t>
            </a:r>
            <a:r>
              <a:rPr b="0" i="1" lang="fr-FR" sz="4400" spc="-1" strike="noStrike">
                <a:solidFill>
                  <a:srgbClr val="dc2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Espace réservé de l'image de la bibliothèque 7" descr="London Eye.jpg"/>
          <p:cNvPicPr/>
          <p:nvPr/>
        </p:nvPicPr>
        <p:blipFill>
          <a:blip r:embed="rId1"/>
          <a:stretch/>
        </p:blipFill>
        <p:spPr>
          <a:xfrm>
            <a:off x="485640" y="205416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67280" y="1515600"/>
            <a:ext cx="42688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3366"/>
                </a:solidFill>
                <a:latin typeface="Arial"/>
              </a:rPr>
              <a:t>London Eye is the largest wheel in Europe. This wheel never stops turning but it turns slow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640" y="30312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4400" spc="-1" strike="noStrike" u="sng">
                <a:solidFill>
                  <a:srgbClr val="579d1c"/>
                </a:solidFill>
                <a:uFillTx/>
                <a:latin typeface="Arial"/>
              </a:rPr>
              <a:t>Big 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Espace réservé de l'image de la bibliothèque 7" descr="Big Ben.jpg"/>
          <p:cNvPicPr/>
          <p:nvPr/>
        </p:nvPicPr>
        <p:blipFill>
          <a:blip r:embed="rId1"/>
          <a:stretch/>
        </p:blipFill>
        <p:spPr>
          <a:xfrm>
            <a:off x="1015920" y="1515960"/>
            <a:ext cx="3208320" cy="4276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67280" y="1515600"/>
            <a:ext cx="42688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23ff23"/>
                </a:solidFill>
                <a:latin typeface="Arial"/>
              </a:rPr>
              <a:t>We were leaving London when I saw Big Ben ,a famous   monument of England; the tower is at the north of the palace of Westminster. It is a big tower with a famous clock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640" y="174600"/>
            <a:ext cx="874584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4400" spc="-1" strike="noStrike" u="sng">
                <a:solidFill>
                  <a:srgbClr val="9999ff"/>
                </a:solidFill>
                <a:uFillTx/>
                <a:latin typeface="Arial"/>
              </a:rPr>
              <a:t>Letter boxes</a:t>
            </a:r>
            <a:r>
              <a:rPr b="0" lang="fr-FR" sz="44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12920" y="1455840"/>
            <a:ext cx="4267080" cy="430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112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b8ff"/>
                </a:solidFill>
                <a:latin typeface="Arial"/>
              </a:rPr>
              <a:t>The letter boxes in England are red. This letter box is a box where English people can put their m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679320" y="1301760"/>
            <a:ext cx="3335400" cy="44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3080" y="179280"/>
            <a:ext cx="87454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4400" spc="-1" strike="noStrike" u="sng">
                <a:solidFill>
                  <a:srgbClr val="ff6633"/>
                </a:solidFill>
                <a:uFillTx/>
                <a:latin typeface="Arial"/>
              </a:rPr>
              <a:t>Famous Bus</a:t>
            </a:r>
            <a:r>
              <a:rPr b="0" lang="fr-FR" sz="4400" spc="-1" strike="noStrike">
                <a:solidFill>
                  <a:srgbClr val="ff66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03640" y="1168560"/>
            <a:ext cx="4267440" cy="430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4000"/>
          </a:bodyPr>
          <a:p>
            <a:pPr marL="640080" indent="-640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9966"/>
                </a:solidFill>
                <a:latin typeface="Arial"/>
              </a:rPr>
              <a:t>In England the buses are red with 2 decks (they are double deckers). Sometimes the second deck of the bus is an open air deck. The bus in the picture runs in Oxf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mage 6" descr="Ph 099.jpg"/>
          <p:cNvPicPr/>
          <p:nvPr/>
        </p:nvPicPr>
        <p:blipFill>
          <a:blip r:embed="rId1"/>
          <a:stretch/>
        </p:blipFill>
        <p:spPr>
          <a:xfrm>
            <a:off x="858960" y="1239840"/>
            <a:ext cx="3537000" cy="471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2:41:28Z</dcterms:created>
  <dc:creator/>
  <dc:description/>
  <dc:language>en-US</dc:language>
  <cp:lastModifiedBy>danneels</cp:lastModifiedBy>
  <dcterms:modified xsi:type="dcterms:W3CDTF">2010-06-09T10:11:37Z</dcterms:modified>
  <cp:revision>7</cp:revision>
  <dc:subject/>
  <dc:title>The England streets</dc:title>
</cp:coreProperties>
</file>