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311CD-623A-4965-8AF2-55E882E77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DDC8F-3A96-4AEB-B812-F0A5E36B3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ED1A3-9B2D-4D24-9761-F1B68823A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EF0C8-5CB6-43A7-9D88-F8E1B266C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871D6-E397-4A38-B09C-C1A451CFA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0CC22-8D70-46B7-9270-0064DF0BA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344F3-F446-4BB3-A0C3-AE00B5F3F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8A916-F675-47BA-AAA8-D138F221B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3320F-50F0-4892-A8B7-FA97827F8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DC960-A5F6-4E22-8C8E-5EB018F60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17C-C245-4C65-99B2-A954E305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AD5-5F73-4E28-BC83-9F80CC87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F8E-5C22-4C07-BFA6-A4EBB004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655-3F72-4ADE-B888-9FA96975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8B83-BC49-4C77-8884-61735CA3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AB8E-90BB-44B9-AE10-6B68DC47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8228-ED6D-4FB4-8702-447FF974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BF58-D3BB-4FC7-A63B-0F0158A2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4FC6-93FE-41DE-810C-9EA0CD1B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6711-5106-4A0E-AF76-B8FC4DF8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B5CD-38AD-4E80-8D57-CF4A6E04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B8F-5D94-4B32-8EC3-4EFCF5F7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C07F-D9B0-4031-ACC8-A762D7B3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8DD0-2247-48DF-87E3-74A2D694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30A4-C86F-47EE-BC98-7D4ABBB4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C632-FE61-410A-8156-AED9D47F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62E1-F931-4C5B-A65B-A036BF2B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DB424-3507-4D93-BB12-62CF0992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CEDD-438D-4508-9B48-5727E096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0D98-D504-419B-96D3-4B33C327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A0F6-DBCD-4C20-946A-06099A8B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6889-57F0-4781-B4F3-44D73F23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B6C-990A-46D2-8EED-EA99B94B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7C5E-8E68-4FEB-93BA-16F6BD8A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B623-73F7-48FE-A66C-F44E356D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0165-B6D6-4E28-976C-005EA524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857D-472D-43D0-A3F5-5248D514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390E-7863-450E-84B4-FFB37D77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C6F8E-A5AB-46B6-ACAA-F249EB31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7772-DF89-4928-8492-46CF3CC4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C0D-9A10-48A4-9E54-270C7B2A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F52-DF64-46FD-88F3-96CFE299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4A5-EF2D-4127-8C2D-E8EF7AEE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D21-030B-4015-ADD1-E7B5BEC5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269-4661-4415-80D1-F441930E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FB5-8D3B-47F9-8FE0-861C90C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10F05B-8286-445E-BADD-04AC937647B9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ECE151-736F-49A0-B696-FA911E2EE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12E167-E299-46CA-B933-FAE892897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ae00"/>
                </a:solidFill>
                <a:latin typeface="Broadway"/>
              </a:rPr>
              <a:t>Shakespeare's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19280" y="1979280"/>
            <a:ext cx="43578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7b8b8"/>
                </a:solidFill>
                <a:latin typeface="Century Gothic"/>
              </a:rPr>
              <a:t>This is Shakespeare's house. He was born there in a red and green bed .In this house there is the glove maker workshop that belonged to Shakespeare's father</a:t>
            </a:r>
            <a:r>
              <a:rPr b="0" lang="en-US" sz="3600" spc="-1" strike="noStrike">
                <a:solidFill>
                  <a:srgbClr val="47b8b8"/>
                </a:solidFill>
                <a:latin typeface="Century Gothic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60360" y="2865600"/>
            <a:ext cx="4425840" cy="3319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3060720" y="6397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99640" y="4220640"/>
            <a:ext cx="8317080" cy="27990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6b0094"/>
                </a:solidFill>
                <a:latin typeface="Franklin Gothic Medium"/>
              </a:rPr>
              <a:t>This is Shakespeare's house. In the picture there is Adeline, Miss Duhayon, Agathe and Chlo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dc2300"/>
                </a:solidFill>
                <a:latin typeface="Broadway"/>
              </a:rPr>
              <a:t>Anne Hathaway's cot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b613d"/>
                </a:solidFill>
                <a:latin typeface="Comic Sans MS"/>
              </a:rPr>
              <a:t>This is Anne Hathaway's cottage. It has a thatched roof and the house is big. Shakespeare held the hand of Anne Hathaway on her be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03280" y="2603520"/>
            <a:ext cx="4425840" cy="3319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b3b300"/>
                </a:solidFill>
                <a:latin typeface="Broadway"/>
              </a:rPr>
              <a:t>Anne Hathaway's gar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151600" y="26035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808019"/>
                </a:solidFill>
                <a:latin typeface="Roman"/>
              </a:rPr>
              <a:t>This is Anne Hathaway's gardens. There are a lot of beautiful f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b3b3b3"/>
                </a:solidFill>
                <a:latin typeface="Broadway"/>
              </a:rPr>
              <a:t>Map of Great Bri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999999"/>
                </a:solidFill>
                <a:latin typeface="Raavi"/>
              </a:rPr>
              <a:t>This is a map of Great Britain in the garden of Anne Hathaway next to the maz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846000" y="1768320"/>
            <a:ext cx="3741840" cy="4989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00ff"/>
                </a:solidFill>
                <a:latin typeface="Broadway"/>
              </a:rPr>
              <a:t>The big fu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494320" y="176832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idprint"/>
              </a:rPr>
              <a:t>Thibault, Josselyn, Chloé and Jules had a lot of fun next to the maze. Célia admires the show. The maze is little and very ea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800080"/>
                </a:solidFill>
                <a:latin typeface="Broadway"/>
              </a:rPr>
              <a:t>Shakespeare's gr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13440" y="1800000"/>
            <a:ext cx="442584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800000"/>
                </a:solidFill>
                <a:latin typeface="Palatino Linotype"/>
              </a:rPr>
              <a:t>Shakespeare's grave is in the chur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800000"/>
                </a:solidFill>
                <a:latin typeface="Palatino Linotype"/>
              </a:rPr>
              <a:t>We paid 50 pence per pers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800000"/>
                </a:solidFill>
                <a:latin typeface="Palatino Linotype"/>
              </a:rPr>
              <a:t>The sentence in the stone was written by Shakespe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800000"/>
                </a:solidFill>
                <a:latin typeface="Palatino Linotype"/>
              </a:rPr>
              <a:t>It is written «Good Friend for Jesus sake forbeare to dig the dust enclosed here. Bless be the man who spares these stones and cursed be he who moves my bones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846000" y="1768320"/>
            <a:ext cx="3741840" cy="4989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333333"/>
                </a:solidFill>
                <a:latin typeface="Broadway"/>
              </a:rPr>
              <a:t>Shakespeare's grave and Anne Hathaway's gr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151600" y="260352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4c4c4c"/>
                </a:solidFill>
                <a:latin typeface="Trebuchet"/>
              </a:rPr>
              <a:t>These are Shakespeare's and Anne Hathaway's gr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4c4c4c"/>
                </a:solidFill>
                <a:latin typeface="Trebuchet"/>
              </a:rPr>
              <a:t>Anne Hathaway was Shakespeare's wif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539640" y="476280"/>
            <a:ext cx="9068040" cy="63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9600" spc="-1" strike="noStrike">
                <a:solidFill>
                  <a:srgbClr val="9966cc"/>
                </a:solidFill>
                <a:latin typeface="Broadway"/>
              </a:rPr>
              <a:t>Morgan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9600" spc="-1" strike="noStrike">
                <a:solidFill>
                  <a:srgbClr val="9966cc"/>
                </a:solidFill>
                <a:latin typeface="Broadway"/>
              </a:rPr>
              <a:t>and Jeann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21:32Z</dcterms:created>
  <dc:creator>Sabine Duchenne</dc:creator>
  <dc:description/>
  <dc:language>en-US</dc:language>
  <cp:lastModifiedBy>Sabine Duchenne</cp:lastModifiedBy>
  <dcterms:modified xsi:type="dcterms:W3CDTF">2010-06-09T15:00:30Z</dcterms:modified>
  <cp:revision>6</cp:revision>
  <dc:subject/>
  <dc:title>Shakespeare's house</dc:title>
</cp:coreProperties>
</file>