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D19C2-53DD-43E7-B5B6-1EE6358E7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91D3A-5727-4B6E-A389-0D383A825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EAED6-4ECE-45FE-A3FD-6537B435F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1D09C-E3A5-46F1-A9B6-B6904C038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F6E95-FA15-4E0B-A1D1-DA58DC4FF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7FD18-08E8-4B5E-B2B0-23236F84D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5F82C-357F-48B8-AF75-DD2A33DB1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B4E56-9B01-4A5A-83AD-E1494A2DA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48DA0-3B1C-4B45-881C-A4FE4F213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4FC0B-6977-4E21-A2E8-73566EBE8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B05-7429-4FAD-B6B0-89FCB602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C9C-CBE8-4F2A-B9D5-AD2732A1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084-0BD4-401A-9C04-5D4DC298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384-FD92-48DE-B3EF-619F1136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DEF4-75E3-4E08-BE21-4EFAE5C2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74AD-7C6E-4D49-A982-7B9750DC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3D4C-A7D2-41F6-8596-4CAD74D1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41E2-D5DF-4294-BF39-F1E33A6E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9FBC-D870-4BFA-93E1-DA6C6F1C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A6EB-6E09-4929-88BB-353F68D9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582A-3CCD-413C-959A-E377B20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650-9BB6-4CA5-A437-3D9E3683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BCF6-F9D9-4B8A-81A6-0D59266B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5C01-068F-46C3-81CD-650C14EA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02C6-7D5D-4C9B-8B33-F87527AD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46D5-5214-4E40-994D-5A9FBE7D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BF53-25F4-42A1-B5DD-9B407EB8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4119-4BF1-4141-87ED-DCC7AA28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D5F4-5FD8-4A6C-9839-7552AF08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32EB-24CD-45D2-8DB3-C82BA3C7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5509-7E7C-4FF0-B5C8-C367547C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8DA6-12A5-4830-B118-262BE473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4BF-AD5E-4A9A-96A7-D4CEBED5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829ED-EDA9-4567-917E-34BEA00B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E722-0D42-4A9C-B10F-FDC2F854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CC38-366F-4455-9367-FE3758D3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A3DF-34C5-48B0-9273-07528202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93E60-43F4-4E44-AD33-279FC112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27E2-DE83-4B60-AAD2-52C010AE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07408-CCA1-47D0-8AC8-A1AF06A3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C0D-B3ED-4C52-9576-5A9DFA43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BA1-F5F8-4F47-A42B-104A02A1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6C5-C5F1-4CFA-AEA5-0A6DEF91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CCB-E613-4CD0-8A1C-67CE74C1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04B3-3F38-44E5-A0AA-97F03A6F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46F-D3DD-46C0-BE09-696A78B3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3E3426-F718-4CF7-B4B4-B505E70F9BA4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7B603A-7BBA-451E-9E84-58DC60E44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2C09D7-CBF2-442F-B0B0-0930A14FA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ae00"/>
                </a:solidFill>
                <a:latin typeface="Broadway"/>
              </a:rPr>
              <a:t>Shakespeare's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19280" y="1979280"/>
            <a:ext cx="43578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7b8b8"/>
                </a:solidFill>
                <a:latin typeface="Century Gothic"/>
              </a:rPr>
              <a:t>This is Shakespeare's house. He was born there in a red and green bed .In this house there is the glove maker workshop that belonged to Shakespeare's father</a:t>
            </a:r>
            <a:r>
              <a:rPr b="0" lang="en-US" sz="3600" spc="-1" strike="noStrike">
                <a:solidFill>
                  <a:srgbClr val="47b8b8"/>
                </a:solidFill>
                <a:latin typeface="Century Gothic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60360" y="2865600"/>
            <a:ext cx="4425840" cy="3319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3060720" y="6397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99640" y="4220640"/>
            <a:ext cx="8317080" cy="27990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6b0094"/>
                </a:solidFill>
                <a:latin typeface="Franklin Gothic Medium"/>
              </a:rPr>
              <a:t>This is Shakespeare's house. In the picture there is Adeline, Miss Duhayon, Agathe and Chlo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dc2300"/>
                </a:solidFill>
                <a:latin typeface="Broadway"/>
              </a:rPr>
              <a:t>Anne Hathaway's cot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b613d"/>
                </a:solidFill>
                <a:latin typeface="Comic Sans MS"/>
              </a:rPr>
              <a:t>This is Anne Hathaway's cottage. It has a thatched roof and the house is big. Shakespeare held the hand of Anne Hathaway on her be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03280" y="2603520"/>
            <a:ext cx="4425840" cy="3319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b3b300"/>
                </a:solidFill>
                <a:latin typeface="Broadway"/>
              </a:rPr>
              <a:t>Anne Hathaway's gar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151600" y="26035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808019"/>
                </a:solidFill>
                <a:latin typeface="Roman"/>
              </a:rPr>
              <a:t>This is Anne Hathaway's gardens. There are a lot of beautiful f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b3b3b3"/>
                </a:solidFill>
                <a:latin typeface="Broadway"/>
              </a:rPr>
              <a:t>Map of Great Bri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9999"/>
                </a:solidFill>
                <a:latin typeface="Raavi"/>
              </a:rPr>
              <a:t>This is a map of Great Britain in the garden of Anne Hathaway next to the maz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846000" y="1768320"/>
            <a:ext cx="3741840" cy="4989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00ff"/>
                </a:solidFill>
                <a:latin typeface="Broadway"/>
              </a:rPr>
              <a:t>The big fu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494320" y="176832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idprint"/>
              </a:rPr>
              <a:t>Thibault, Josselyn, Chloé and Jules had a lot of fun next to the maze. Célia admires the show. The maze is little and very ea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800080"/>
                </a:solidFill>
                <a:latin typeface="Broadway"/>
              </a:rPr>
              <a:t>Shakespeare's gr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13440" y="1800000"/>
            <a:ext cx="442584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800000"/>
                </a:solidFill>
                <a:latin typeface="Palatino Linotype"/>
              </a:rPr>
              <a:t>Shakespeare's grave is in the chur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800000"/>
                </a:solidFill>
                <a:latin typeface="Palatino Linotype"/>
              </a:rPr>
              <a:t>We paid 50 pence per pers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800000"/>
                </a:solidFill>
                <a:latin typeface="Palatino Linotype"/>
              </a:rPr>
              <a:t>The sentence in the stone was written by Shakespe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800000"/>
                </a:solidFill>
                <a:latin typeface="Palatino Linotype"/>
              </a:rPr>
              <a:t>It is written «Good Friend for Jesus sake forbeare to dig the dust enclosed here. Bless be the man who spares these stones and cursed be he who moves my bones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846000" y="1768320"/>
            <a:ext cx="3741840" cy="4989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Broadway"/>
              </a:rPr>
              <a:t>Shakespeare's grave and Anne Hathaway's gr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151600" y="26035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4c4c4c"/>
                </a:solidFill>
                <a:latin typeface="Trebuchet"/>
              </a:rPr>
              <a:t>These are Shakespeare's and Anne Hathaway's gr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4c4c4c"/>
                </a:solidFill>
                <a:latin typeface="Trebuchet"/>
              </a:rPr>
              <a:t>Anne Hathaway was Shakespeare's wif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539640" y="476280"/>
            <a:ext cx="9068040" cy="63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9600" spc="-1" strike="noStrike">
                <a:solidFill>
                  <a:srgbClr val="9966cc"/>
                </a:solidFill>
                <a:latin typeface="Broadway"/>
              </a:rPr>
              <a:t>Morgan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9600" spc="-1" strike="noStrike">
                <a:solidFill>
                  <a:srgbClr val="9966cc"/>
                </a:solidFill>
                <a:latin typeface="Broadway"/>
              </a:rPr>
              <a:t>and Jeann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21:32Z</dcterms:created>
  <dc:creator>Sabine Duchenne</dc:creator>
  <dc:description/>
  <dc:language>en-US</dc:language>
  <cp:lastModifiedBy>Sabine Duchenne</cp:lastModifiedBy>
  <dcterms:modified xsi:type="dcterms:W3CDTF">2010-06-09T15:00:30Z</dcterms:modified>
  <cp:revision>6</cp:revision>
  <dc:subject/>
  <dc:title>Shakespeare's house</dc:title>
</cp:coreProperties>
</file>