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ED8-E719-4C6E-8263-4200A8FC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240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904-F82C-4025-96DF-026A5949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252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C65-9FD0-4DE3-866F-BB2AD002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5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9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5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9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ADF-ED18-497F-88A0-DFBC65AD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2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2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11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2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5B8-EDE8-4025-9DD0-ECDAB585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252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240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252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5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9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5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09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2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90A-319C-4513-A4DD-E821A05D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036-67AF-4C56-8D5E-EDFAE70D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17F-55CD-45D0-B5D7-8400361B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11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B96-E759-49EE-AD8F-92F2B99D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3E1-7F44-4F80-BACE-E86ED1F6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252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C27-F190-4D08-AD06-AACB4690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306-79DA-4BA5-9DE7-5D17B78C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DD910B-D980-4927-8F9A-433319AED54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Shopping in England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 Oxford, We bought present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89000" y="213840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Wembley Stadium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135400" y="2465280"/>
            <a:ext cx="4106880" cy="4106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cap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41240" y="744480"/>
            <a:ext cx="860436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99284c"/>
                </a:solidFill>
                <a:latin typeface="Arial"/>
              </a:rPr>
              <a:t>THE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Covent Garden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135400" y="2465280"/>
            <a:ext cx="4106880" cy="4106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       key-rings to hang key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Covent Garden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tee-shirts to wear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22240" y="2979720"/>
            <a:ext cx="4106880" cy="3079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Covent Garden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135400" y="2465280"/>
            <a:ext cx="4106880" cy="4106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mug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Covent Garden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         pullovers to offer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822240" y="246528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Stradford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135400" y="2465280"/>
            <a:ext cx="4106880" cy="4106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hen we went to Shakespeare's house, we bought teddy-bea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Oxford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After we visited the College, we went   shopping. We bought painting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822240" y="246528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Wembley Stadium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135400" y="2774880"/>
            <a:ext cx="4106880" cy="3489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footba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Wembley stadium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pen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22240" y="2378160"/>
            <a:ext cx="4106880" cy="4282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46:26Z</dcterms:created>
  <dc:creator>Sabine Duchenne</dc:creator>
  <dc:description/>
  <dc:language>en-US</dc:language>
  <cp:lastModifiedBy>Sabine Duchenne</cp:lastModifiedBy>
  <dcterms:modified xsi:type="dcterms:W3CDTF">2010-06-09T14:40:53Z</dcterms:modified>
  <cp:revision>5</cp:revision>
  <dc:subject/>
  <dc:title>Shopping in England.</dc:title>
</cp:coreProperties>
</file>