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B36-918D-4B26-8C92-C5F3380B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240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BE3-9029-415F-982B-6D34E46E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252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651-C02D-4349-8AEB-5CA8CF37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5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9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5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9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3AB-A869-43D1-8F65-B75EE4BF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2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2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11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2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F92-D639-412C-802B-AD527FDD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252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240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252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5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9880" y="213804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5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09880" y="4622400"/>
            <a:ext cx="27082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2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2C5-22A9-4804-A7C1-66C66CC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84A-5BEB-44FB-8CB6-C7C75403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D21-24E4-447E-BC1B-54D8E2C3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11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462-EDA2-48BA-8648-A8CBB2A5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DEC-A758-4769-A091-F2000C6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2520" y="462240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4BC-8EB4-4196-BB45-1BA3777D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2520" y="2138040"/>
            <a:ext cx="410508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2400"/>
            <a:ext cx="84121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171-BAE9-4DBA-85A2-49C59B3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73A8F0-1EA1-4EA4-B930-9136FB876BE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Shopping in England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 Oxford, We bought present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89000" y="213840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Wembley Stadium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135400" y="2465280"/>
            <a:ext cx="4106880" cy="4106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cap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41240" y="744480"/>
            <a:ext cx="860436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99284c"/>
                </a:solidFill>
                <a:latin typeface="Arial"/>
              </a:rPr>
              <a:t>THE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Covent Garden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135400" y="2465280"/>
            <a:ext cx="4106880" cy="4106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       key-rings to hang key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Covent Garden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tee-shirts to wear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22240" y="2979720"/>
            <a:ext cx="4106880" cy="3079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Covent Garden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135400" y="2465280"/>
            <a:ext cx="4106880" cy="4106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mug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Covent Garden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         pullovers to offer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822240" y="246528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Stradford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135400" y="2465280"/>
            <a:ext cx="4106880" cy="4106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hen we went to Shakespeare's house, we bought teddy-bea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Oxford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After we visited the College, we went   shopping. We bought painting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822240" y="246528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Wembley Stadium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135400" y="2774880"/>
            <a:ext cx="4106880" cy="3489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footba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 Wembley stadium.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9860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We bought pen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22240" y="2378160"/>
            <a:ext cx="4106880" cy="4282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46:26Z</dcterms:created>
  <dc:creator>Sabine Duchenne</dc:creator>
  <dc:description/>
  <dc:language>en-US</dc:language>
  <cp:lastModifiedBy>Sabine Duchenne</cp:lastModifiedBy>
  <dcterms:modified xsi:type="dcterms:W3CDTF">2010-06-09T14:40:53Z</dcterms:modified>
  <cp:revision>5</cp:revision>
  <dc:subject/>
  <dc:title>Shopping in England.</dc:title>
</cp:coreProperties>
</file>