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CFF53-797A-4F2C-BE0B-F87FC50E3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D0465-F53D-44BD-AFBC-251D443FC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1AAD5-194E-4C3D-AF8E-05C5E603F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00FB2-DC19-464B-8557-72135F8F6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3E561-46C8-4275-B222-79560B7DE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F46C9-8878-4E30-9641-3D60FE616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D285F-DE13-4B6F-B727-0BDA876D7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89DB6-544E-4947-9B55-976ED3C99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314C4-1253-4277-AC6B-26FAC7644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1953E-B2A2-4702-9368-9140B1CCD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0597A-AB04-469D-94D6-3980D29AB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400E3-02D4-4656-9E18-CA0D75312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EFD3A-541C-4C05-9CBA-568D9805E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B85-C004-4218-919A-16C7A050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581-BBAF-40BE-87AD-845AF374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C19-A189-4D59-BD0E-04EB6FC6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E59-9135-4B21-9390-C3F54B03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D95-5C08-48FD-A27B-FC546EAD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17D-99BA-482C-A299-EBB66A65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1A1-9D49-4E59-87A1-4FD76011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D34-4844-4827-ACBC-A88C637F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FD5-7000-4A42-A804-63A364CE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3C4-4592-416D-A46B-D8257C8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A7E-C5BB-4DEC-8DA5-85D9C86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93D-5CEE-4069-B9A5-26A01374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9B1C87-7058-4557-9E24-EE5F11530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5468760" y="208080"/>
            <a:ext cx="2160720" cy="1979640"/>
          </a:xfrm>
          <a:prstGeom prst="wedgeRoundRectCallout">
            <a:avLst>
              <a:gd name="adj1" fmla="val -33222"/>
              <a:gd name="adj2" fmla="val 86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jourd'hu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us allons par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a persécu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Juifs pend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seconde Guer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dia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C:\Users\baptiste\Documents\Baptiste\Monique Heddebaut\Documents\Doc. 7. Arrivée d'un convoi au Sammellager de Malines. Photo Musée juif de Belgique, Bruxelles.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"/>
          <p:cNvSpPr/>
          <p:nvPr/>
        </p:nvSpPr>
        <p:spPr>
          <a:xfrm>
            <a:off x="325440" y="1065240"/>
            <a:ext cx="3643200" cy="1571760"/>
          </a:xfrm>
          <a:prstGeom prst="wedgeRoundRectCallout">
            <a:avLst>
              <a:gd name="adj1" fmla="val -60722"/>
              <a:gd name="adj2" fmla="val 7620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Juifs, quand ils partaient p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amps de concentratio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aient abandonn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urs affai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baptiste\Documents\Baptiste\Monique Heddebaut\Photos\13 12 2009 085.jpg"/>
          <p:cNvPicPr/>
          <p:nvPr/>
        </p:nvPicPr>
        <p:blipFill>
          <a:blip r:embed="rId1"/>
          <a:srcRect l="0" t="14553" r="0" b="2341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"/>
          <p:cNvSpPr/>
          <p:nvPr/>
        </p:nvSpPr>
        <p:spPr>
          <a:xfrm>
            <a:off x="396720" y="1065240"/>
            <a:ext cx="3643560" cy="1071360"/>
          </a:xfrm>
          <a:prstGeom prst="wedgeRoundRectCallout">
            <a:avLst>
              <a:gd name="adj1" fmla="val -60722"/>
              <a:gd name="adj2" fmla="val 7620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ila c’étais la dernière pho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’espère que ça vous a intéress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à la prochaine foi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2"/>
          <p:cNvSpPr/>
          <p:nvPr/>
        </p:nvSpPr>
        <p:spPr>
          <a:xfrm>
            <a:off x="2825640" y="2136600"/>
            <a:ext cx="4429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0" spc="-1" strike="noStrike" u="sng">
                <a:solidFill>
                  <a:srgbClr val="ff0000"/>
                </a:solidFill>
                <a:uFillTx/>
                <a:latin typeface="Arial"/>
              </a:rPr>
              <a:t>FIN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4680" y="0"/>
            <a:ext cx="1007136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"/>
          <p:cNvSpPr/>
          <p:nvPr/>
        </p:nvSpPr>
        <p:spPr>
          <a:xfrm>
            <a:off x="5940360" y="4319640"/>
            <a:ext cx="900000" cy="1439640"/>
          </a:xfrm>
          <a:prstGeom prst="downArrow">
            <a:avLst>
              <a:gd name="adj1" fmla="val 32435"/>
              <a:gd name="adj2" fmla="val 62651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468360" y="2494080"/>
            <a:ext cx="3643200" cy="760320"/>
          </a:xfrm>
          <a:prstGeom prst="wedgeRoundRectCallout">
            <a:avLst>
              <a:gd name="adj1" fmla="val -61532"/>
              <a:gd name="adj2" fmla="val 9737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pensez-vous de cette imag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6683400" y="1851120"/>
            <a:ext cx="2519280" cy="720720"/>
          </a:xfrm>
          <a:prstGeom prst="wedgeRoundRectCallout">
            <a:avLst>
              <a:gd name="adj1" fmla="val 86078"/>
              <a:gd name="adj2" fmla="val 99921"/>
              <a:gd name="adj3" fmla="val 16667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'est un grand-pè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sa cuisine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179280" y="4319640"/>
            <a:ext cx="2880000" cy="1260360"/>
          </a:xfrm>
          <a:prstGeom prst="wedgeRoundRectCallout">
            <a:avLst>
              <a:gd name="adj1" fmla="val -56810"/>
              <a:gd name="adj2" fmla="val 108064"/>
              <a:gd name="adj3" fmla="val 16667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n, il a un tatouage sur 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ras : c'est un numé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baptiste\Documents\Baptiste\Monique Heddebaut\Photos\13 12 2009 077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"/>
          <p:cNvSpPr/>
          <p:nvPr/>
        </p:nvSpPr>
        <p:spPr>
          <a:xfrm>
            <a:off x="3683160" y="1136520"/>
            <a:ext cx="3600360" cy="1260720"/>
          </a:xfrm>
          <a:prstGeom prst="wedgeRoundRectCallout">
            <a:avLst>
              <a:gd name="adj1" fmla="val -64106"/>
              <a:gd name="adj2" fmla="val 9121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ivement, il a un tatouage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un numé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lui a donné quand on l’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prisonné dans un cam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baptiste\Documents\Baptiste\Monique Heddebaut\Documents\Ad62 carnet antrop 1924 Jacob Lagrenée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3"/>
          <p:cNvSpPr/>
          <p:nvPr/>
        </p:nvSpPr>
        <p:spPr>
          <a:xfrm>
            <a:off x="396720" y="493560"/>
            <a:ext cx="3786480" cy="1065240"/>
          </a:xfrm>
          <a:prstGeom prst="wedgeRoundRectCallout">
            <a:avLst>
              <a:gd name="adj1" fmla="val -61009"/>
              <a:gd name="adj2" fmla="val 86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cette image, qu’en pensez-vo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683400" y="2994120"/>
            <a:ext cx="2519280" cy="1143000"/>
          </a:xfrm>
          <a:prstGeom prst="wedgeRoundRectCallout">
            <a:avLst>
              <a:gd name="adj1" fmla="val 86078"/>
              <a:gd name="adj2" fmla="val 99921"/>
              <a:gd name="adj3" fmla="val 16667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dirait la fiche d’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s qui doit aller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baptiste\Documents\Baptiste\Monique Heddebaut\Photos\13 12 2009 078.jpg"/>
          <p:cNvPicPr/>
          <p:nvPr/>
        </p:nvPicPr>
        <p:blipFill>
          <a:blip r:embed="rId1"/>
          <a:stretch/>
        </p:blipFill>
        <p:spPr>
          <a:xfrm>
            <a:off x="9360" y="0"/>
            <a:ext cx="1007136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/>
          <p:cNvSpPr/>
          <p:nvPr/>
        </p:nvSpPr>
        <p:spPr>
          <a:xfrm>
            <a:off x="5183280" y="1565280"/>
            <a:ext cx="3786120" cy="1065240"/>
          </a:xfrm>
          <a:prstGeom prst="wedgeRoundRectCallout">
            <a:avLst>
              <a:gd name="adj1" fmla="val -61009"/>
              <a:gd name="adj2" fmla="val 86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vrai, ça y ressemble. Mais, 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’est que la fiche d’identité d’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mme du voyage appelée ca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thropométriq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baptiste\Documents\Baptiste\Monique Heddebaut\Photos\13 12 2009 07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396720" y="3279600"/>
            <a:ext cx="4143600" cy="1065240"/>
          </a:xfrm>
          <a:prstGeom prst="wedgeRoundRectCallout">
            <a:avLst>
              <a:gd name="adj1" fmla="val -61009"/>
              <a:gd name="adj2" fmla="val 86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ne trouvez pas que c’est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 poussé? Juste parce que c’est u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zigane, on lui met 10 fois pl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informations que quelqu’un d’autre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baptiste\Documents\Baptiste\Monique Heddebaut\Documents\Arch dép 59 arrestation Juifs 11 09 1942.jpg"/>
          <p:cNvPicPr/>
          <p:nvPr/>
        </p:nvPicPr>
        <p:blipFill>
          <a:blip r:embed="rId1"/>
          <a:stretch/>
        </p:blipFill>
        <p:spPr>
          <a:xfrm>
            <a:off x="2120760" y="3240"/>
            <a:ext cx="5838840" cy="75531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"/>
          <p:cNvSpPr/>
          <p:nvPr/>
        </p:nvSpPr>
        <p:spPr>
          <a:xfrm>
            <a:off x="254160" y="2851200"/>
            <a:ext cx="3429000" cy="1765080"/>
          </a:xfrm>
          <a:prstGeom prst="wedgeRoundRectCallout">
            <a:avLst>
              <a:gd name="adj1" fmla="val -57675"/>
              <a:gd name="adj2" fmla="val 11596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voudrais vous faire remarqu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’il n’y a pas que 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emands qui arrêtent 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fs. Il y a aussi des Françai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lèche gauche 7"/>
          <p:cNvSpPr/>
          <p:nvPr/>
        </p:nvSpPr>
        <p:spPr>
          <a:xfrm>
            <a:off x="7683480" y="2565360"/>
            <a:ext cx="1571760" cy="10000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7469280" y="4851360"/>
            <a:ext cx="2286000" cy="1071720"/>
          </a:xfrm>
          <a:prstGeom prst="wedgeRoundRectCallout">
            <a:avLst>
              <a:gd name="adj1" fmla="val 64782"/>
              <a:gd name="adj2" fmla="val 98643"/>
              <a:gd name="adj3" fmla="val 16667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vrai, 4 ag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Douai ont particip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cette arrestation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baptiste\Documents\Baptiste\Monique Heddebaut\Documents\Doc. 13. Fiche de renseignements de Marie Weis arrêtée le 23 octobre 1943. Arch. dép. Nord, 1W1880..jpg"/>
          <p:cNvPicPr/>
          <p:nvPr/>
        </p:nvPicPr>
        <p:blipFill>
          <a:blip r:embed="rId1"/>
          <a:stretch/>
        </p:blipFill>
        <p:spPr>
          <a:xfrm>
            <a:off x="2184480" y="0"/>
            <a:ext cx="5732280" cy="75596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"/>
          <p:cNvSpPr/>
          <p:nvPr/>
        </p:nvSpPr>
        <p:spPr>
          <a:xfrm>
            <a:off x="0" y="922320"/>
            <a:ext cx="3429000" cy="1765440"/>
          </a:xfrm>
          <a:prstGeom prst="wedgeRoundRectCallout">
            <a:avLst>
              <a:gd name="adj1" fmla="val -50152"/>
              <a:gd name="adj2" fmla="val 8408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ardez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s ont arrêté cette dame 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le « serait » d’origine lorrai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s n’en étaient même pas sûrs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lèche gauche 4"/>
          <p:cNvSpPr/>
          <p:nvPr/>
        </p:nvSpPr>
        <p:spPr>
          <a:xfrm rot="16200000">
            <a:off x="5754600" y="4422240"/>
            <a:ext cx="1571400" cy="1000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baptiste\Documents\Baptiste\39-45 Douai Dr Quesnoy.jpg"/>
          <p:cNvPicPr/>
          <p:nvPr/>
        </p:nvPicPr>
        <p:blipFill>
          <a:blip r:embed="rId1"/>
          <a:stretch/>
        </p:blipFill>
        <p:spPr>
          <a:xfrm>
            <a:off x="2397240" y="12600"/>
            <a:ext cx="5297400" cy="7534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>
            <a:off x="254160" y="2208240"/>
            <a:ext cx="3000240" cy="857160"/>
          </a:xfrm>
          <a:prstGeom prst="wedgeRoundRectCallout">
            <a:avLst>
              <a:gd name="adj1" fmla="val -57675"/>
              <a:gd name="adj2" fmla="val 11596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pensez-vous de 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7254720" y="2708280"/>
            <a:ext cx="2826000" cy="1357200"/>
          </a:xfrm>
          <a:prstGeom prst="wedgeRoundRectCallout">
            <a:avLst>
              <a:gd name="adj1" fmla="val 48898"/>
              <a:gd name="adj2" fmla="val 120287"/>
              <a:gd name="adj3" fmla="val 16667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docteur n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pproche des Allem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te à cause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re tour de crâne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0" y="3994200"/>
            <a:ext cx="3325680" cy="1857240"/>
          </a:xfrm>
          <a:prstGeom prst="wedgeRoundRectCallout">
            <a:avLst>
              <a:gd name="adj1" fmla="val -48365"/>
              <a:gd name="adj2" fmla="val 77393"/>
              <a:gd name="adj3" fmla="val 16667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n’est pas tout ! Il f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tudes avec les Allem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dit que les tours de crâ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définir la « race 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e person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totalement faux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lèche gauche 5"/>
          <p:cNvSpPr/>
          <p:nvPr/>
        </p:nvSpPr>
        <p:spPr>
          <a:xfrm>
            <a:off x="7754760" y="5494320"/>
            <a:ext cx="85752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lèche gauche 6"/>
          <p:cNvSpPr/>
          <p:nvPr/>
        </p:nvSpPr>
        <p:spPr>
          <a:xfrm>
            <a:off x="7683480" y="5780160"/>
            <a:ext cx="85716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51d64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2:21:08Z</dcterms:created>
  <dc:creator>baptiste</dc:creator>
  <dc:description/>
  <dc:language>en-US</dc:language>
  <cp:lastModifiedBy>Thierry</cp:lastModifiedBy>
  <dcterms:modified xsi:type="dcterms:W3CDTF">2010-04-28T13:51:53Z</dcterms:modified>
  <cp:revision>92</cp:revision>
  <dc:subject/>
  <dc:title>Diapositive 1</dc:title>
</cp:coreProperties>
</file>