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D832D-EC71-40FA-99F3-4E252A8CF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E9F54-E226-408B-89EF-F212B1536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71602-2333-44A8-AC7F-51D9DEEBF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7CA31-5D33-4FBF-B4A9-D6B78F9A0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8556D-A1BA-41B5-B4BF-D8DFCED2B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F3650-667B-4076-9CAA-0D6F81594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5CA9A-9CFD-4C2F-ABFD-E2501D561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13BE2-E771-4CE3-9D7F-499325725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0293E-89BD-4966-88CD-11765852F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E82F6-0E36-4E51-A90F-7D244521F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2DAB0-7883-4336-8BB2-22AEF97E3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8234C-64C0-49C2-A41D-16B372A4D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10295-B15F-40D8-918C-1674417B6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B5E-BAA1-4122-8F55-A27FEE9E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252-D984-4647-8D77-8992CA78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F11-B890-4D58-81E4-EB3D7812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A43-B0B0-419A-B961-4C7DC3A8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835-AE16-4A55-83C8-68F42233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804-1DE9-4976-9F07-037C3565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87B-66E5-4E14-B507-DBAE6FF2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640-9DE8-4863-943A-38207AD1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E35-CCE5-477B-B732-7D2398F0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22E-406C-4616-BE3A-BD06A7C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29F-7BC9-4963-9555-E80F245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D0B-CF00-4BAF-B787-FFA64427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7D2D5D-574C-4B12-B4BC-E86236559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5468760" y="208080"/>
            <a:ext cx="2160720" cy="1979640"/>
          </a:xfrm>
          <a:prstGeom prst="wedgeRoundRectCallout">
            <a:avLst>
              <a:gd name="adj1" fmla="val -33222"/>
              <a:gd name="adj2" fmla="val 86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jourd'hu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us allons par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a persécu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Juifs pend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seconde Guer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dia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C:\Users\baptiste\Documents\Baptiste\Monique Heddebaut\Documents\Doc. 7. Arrivée d'un convoi au Sammellager de Malines. Photo Musée juif de Belgique, Bruxelles.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"/>
          <p:cNvSpPr/>
          <p:nvPr/>
        </p:nvSpPr>
        <p:spPr>
          <a:xfrm>
            <a:off x="325440" y="1065240"/>
            <a:ext cx="3643200" cy="1571760"/>
          </a:xfrm>
          <a:prstGeom prst="wedgeRoundRectCallout">
            <a:avLst>
              <a:gd name="adj1" fmla="val -60722"/>
              <a:gd name="adj2" fmla="val 7620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Juifs, quand ils partaient p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amps de concentratio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aient abandonn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urs affai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baptiste\Documents\Baptiste\Monique Heddebaut\Photos\13 12 2009 085.jpg"/>
          <p:cNvPicPr/>
          <p:nvPr/>
        </p:nvPicPr>
        <p:blipFill>
          <a:blip r:embed="rId1"/>
          <a:srcRect l="0" t="14553" r="0" b="2341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"/>
          <p:cNvSpPr/>
          <p:nvPr/>
        </p:nvSpPr>
        <p:spPr>
          <a:xfrm>
            <a:off x="396720" y="1065240"/>
            <a:ext cx="3643560" cy="1071360"/>
          </a:xfrm>
          <a:prstGeom prst="wedgeRoundRectCallout">
            <a:avLst>
              <a:gd name="adj1" fmla="val -60722"/>
              <a:gd name="adj2" fmla="val 7620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ila c’étais la dernière pho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’espère que ça vous a intéress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à la prochaine foi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2"/>
          <p:cNvSpPr/>
          <p:nvPr/>
        </p:nvSpPr>
        <p:spPr>
          <a:xfrm>
            <a:off x="2825640" y="2136600"/>
            <a:ext cx="4429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0" spc="-1" strike="noStrike" u="sng">
                <a:solidFill>
                  <a:srgbClr val="ff0000"/>
                </a:solidFill>
                <a:uFillTx/>
                <a:latin typeface="Arial"/>
              </a:rPr>
              <a:t>FIN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4680" y="0"/>
            <a:ext cx="1007136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"/>
          <p:cNvSpPr/>
          <p:nvPr/>
        </p:nvSpPr>
        <p:spPr>
          <a:xfrm>
            <a:off x="5940360" y="4319640"/>
            <a:ext cx="900000" cy="1439640"/>
          </a:xfrm>
          <a:prstGeom prst="downArrow">
            <a:avLst>
              <a:gd name="adj1" fmla="val 32435"/>
              <a:gd name="adj2" fmla="val 62651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468360" y="2494080"/>
            <a:ext cx="3643200" cy="760320"/>
          </a:xfrm>
          <a:prstGeom prst="wedgeRoundRectCallout">
            <a:avLst>
              <a:gd name="adj1" fmla="val -61532"/>
              <a:gd name="adj2" fmla="val 9737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pensez-vous de cette imag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6683400" y="1851120"/>
            <a:ext cx="2519280" cy="720720"/>
          </a:xfrm>
          <a:prstGeom prst="wedgeRoundRectCallout">
            <a:avLst>
              <a:gd name="adj1" fmla="val 86078"/>
              <a:gd name="adj2" fmla="val 99921"/>
              <a:gd name="adj3" fmla="val 16667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'est un grand-pè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sa cuisine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179280" y="4319640"/>
            <a:ext cx="2880000" cy="1260360"/>
          </a:xfrm>
          <a:prstGeom prst="wedgeRoundRectCallout">
            <a:avLst>
              <a:gd name="adj1" fmla="val -56810"/>
              <a:gd name="adj2" fmla="val 108064"/>
              <a:gd name="adj3" fmla="val 16667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n, il a un tatouage sur 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ras : c'est un numé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baptiste\Documents\Baptiste\Monique Heddebaut\Photos\13 12 2009 077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"/>
          <p:cNvSpPr/>
          <p:nvPr/>
        </p:nvSpPr>
        <p:spPr>
          <a:xfrm>
            <a:off x="3683160" y="1136520"/>
            <a:ext cx="3600360" cy="1260720"/>
          </a:xfrm>
          <a:prstGeom prst="wedgeRoundRectCallout">
            <a:avLst>
              <a:gd name="adj1" fmla="val -64106"/>
              <a:gd name="adj2" fmla="val 9121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ivement, il a un tatouage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un numé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lui a donné quand on l’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prisonné dans un cam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baptiste\Documents\Baptiste\Monique Heddebaut\Documents\Ad62 carnet antrop 1924 Jacob Lagrenée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3"/>
          <p:cNvSpPr/>
          <p:nvPr/>
        </p:nvSpPr>
        <p:spPr>
          <a:xfrm>
            <a:off x="396720" y="493560"/>
            <a:ext cx="3786480" cy="1065240"/>
          </a:xfrm>
          <a:prstGeom prst="wedgeRoundRectCallout">
            <a:avLst>
              <a:gd name="adj1" fmla="val -61009"/>
              <a:gd name="adj2" fmla="val 86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cette image, qu’en pensez-vo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683400" y="2994120"/>
            <a:ext cx="2519280" cy="1143000"/>
          </a:xfrm>
          <a:prstGeom prst="wedgeRoundRectCallout">
            <a:avLst>
              <a:gd name="adj1" fmla="val 86078"/>
              <a:gd name="adj2" fmla="val 99921"/>
              <a:gd name="adj3" fmla="val 16667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dirait la fiche d’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s qui doit aller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baptiste\Documents\Baptiste\Monique Heddebaut\Photos\13 12 2009 078.jpg"/>
          <p:cNvPicPr/>
          <p:nvPr/>
        </p:nvPicPr>
        <p:blipFill>
          <a:blip r:embed="rId1"/>
          <a:stretch/>
        </p:blipFill>
        <p:spPr>
          <a:xfrm>
            <a:off x="9360" y="0"/>
            <a:ext cx="1007136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/>
          <p:cNvSpPr/>
          <p:nvPr/>
        </p:nvSpPr>
        <p:spPr>
          <a:xfrm>
            <a:off x="5183280" y="1565280"/>
            <a:ext cx="3786120" cy="1065240"/>
          </a:xfrm>
          <a:prstGeom prst="wedgeRoundRectCallout">
            <a:avLst>
              <a:gd name="adj1" fmla="val -61009"/>
              <a:gd name="adj2" fmla="val 86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vrai, ça y ressemble. Mais, 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’est que la fiche d’identité d’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mme du voyage appelée ca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thropométriq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baptiste\Documents\Baptiste\Monique Heddebaut\Photos\13 12 2009 07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396720" y="3279600"/>
            <a:ext cx="4143600" cy="1065240"/>
          </a:xfrm>
          <a:prstGeom prst="wedgeRoundRectCallout">
            <a:avLst>
              <a:gd name="adj1" fmla="val -61009"/>
              <a:gd name="adj2" fmla="val 86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ne trouvez pas que c’est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 poussé? Juste parce que c’est u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zigane, on lui met 10 fois pl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informations que quelqu’un d’autre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baptiste\Documents\Baptiste\Monique Heddebaut\Documents\Arch dép 59 arrestation Juifs 11 09 1942.jpg"/>
          <p:cNvPicPr/>
          <p:nvPr/>
        </p:nvPicPr>
        <p:blipFill>
          <a:blip r:embed="rId1"/>
          <a:stretch/>
        </p:blipFill>
        <p:spPr>
          <a:xfrm>
            <a:off x="2120760" y="3240"/>
            <a:ext cx="5838840" cy="75531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"/>
          <p:cNvSpPr/>
          <p:nvPr/>
        </p:nvSpPr>
        <p:spPr>
          <a:xfrm>
            <a:off x="254160" y="2851200"/>
            <a:ext cx="3429000" cy="1765080"/>
          </a:xfrm>
          <a:prstGeom prst="wedgeRoundRectCallout">
            <a:avLst>
              <a:gd name="adj1" fmla="val -57675"/>
              <a:gd name="adj2" fmla="val 11596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voudrais vous faire remarqu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’il n’y a pas que 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emands qui arrêtent 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fs. Il y a aussi des Françai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lèche gauche 7"/>
          <p:cNvSpPr/>
          <p:nvPr/>
        </p:nvSpPr>
        <p:spPr>
          <a:xfrm>
            <a:off x="7683480" y="2565360"/>
            <a:ext cx="1571760" cy="10000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7469280" y="4851360"/>
            <a:ext cx="2286000" cy="1071720"/>
          </a:xfrm>
          <a:prstGeom prst="wedgeRoundRectCallout">
            <a:avLst>
              <a:gd name="adj1" fmla="val 64782"/>
              <a:gd name="adj2" fmla="val 98643"/>
              <a:gd name="adj3" fmla="val 16667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vrai, 4 ag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Douai ont particip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cette arrestation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baptiste\Documents\Baptiste\Monique Heddebaut\Documents\Doc. 13. Fiche de renseignements de Marie Weis arrêtée le 23 octobre 1943. Arch. dép. Nord, 1W1880..jpg"/>
          <p:cNvPicPr/>
          <p:nvPr/>
        </p:nvPicPr>
        <p:blipFill>
          <a:blip r:embed="rId1"/>
          <a:stretch/>
        </p:blipFill>
        <p:spPr>
          <a:xfrm>
            <a:off x="2184480" y="0"/>
            <a:ext cx="5732280" cy="75596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"/>
          <p:cNvSpPr/>
          <p:nvPr/>
        </p:nvSpPr>
        <p:spPr>
          <a:xfrm>
            <a:off x="0" y="922320"/>
            <a:ext cx="3429000" cy="1765440"/>
          </a:xfrm>
          <a:prstGeom prst="wedgeRoundRectCallout">
            <a:avLst>
              <a:gd name="adj1" fmla="val -50152"/>
              <a:gd name="adj2" fmla="val 8408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ardez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s ont arrêté cette dame 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le « serait » d’origine lorrai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s n’en étaient même pas sûrs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lèche gauche 4"/>
          <p:cNvSpPr/>
          <p:nvPr/>
        </p:nvSpPr>
        <p:spPr>
          <a:xfrm rot="16200000">
            <a:off x="5754600" y="4422240"/>
            <a:ext cx="1571400" cy="1000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baptiste\Documents\Baptiste\39-45 Douai Dr Quesnoy.jpg"/>
          <p:cNvPicPr/>
          <p:nvPr/>
        </p:nvPicPr>
        <p:blipFill>
          <a:blip r:embed="rId1"/>
          <a:stretch/>
        </p:blipFill>
        <p:spPr>
          <a:xfrm>
            <a:off x="2397240" y="12600"/>
            <a:ext cx="5297400" cy="7534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>
            <a:off x="254160" y="2208240"/>
            <a:ext cx="3000240" cy="857160"/>
          </a:xfrm>
          <a:prstGeom prst="wedgeRoundRectCallout">
            <a:avLst>
              <a:gd name="adj1" fmla="val -57675"/>
              <a:gd name="adj2" fmla="val 11596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pensez-vous de 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7254720" y="2708280"/>
            <a:ext cx="2826000" cy="1357200"/>
          </a:xfrm>
          <a:prstGeom prst="wedgeRoundRectCallout">
            <a:avLst>
              <a:gd name="adj1" fmla="val 48898"/>
              <a:gd name="adj2" fmla="val 120287"/>
              <a:gd name="adj3" fmla="val 16667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docteur n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pproche des Allem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te à cause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re tour de crâne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0" y="3994200"/>
            <a:ext cx="3325680" cy="1857240"/>
          </a:xfrm>
          <a:prstGeom prst="wedgeRoundRectCallout">
            <a:avLst>
              <a:gd name="adj1" fmla="val -48365"/>
              <a:gd name="adj2" fmla="val 77393"/>
              <a:gd name="adj3" fmla="val 16667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n’est pas tout ! Il f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tudes avec les Allem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dit que les tours de crâ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définir la « race 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e person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totalement faux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lèche gauche 5"/>
          <p:cNvSpPr/>
          <p:nvPr/>
        </p:nvSpPr>
        <p:spPr>
          <a:xfrm>
            <a:off x="7754760" y="5494320"/>
            <a:ext cx="85752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lèche gauche 6"/>
          <p:cNvSpPr/>
          <p:nvPr/>
        </p:nvSpPr>
        <p:spPr>
          <a:xfrm>
            <a:off x="7683480" y="5780160"/>
            <a:ext cx="85716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51d64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2:21:08Z</dcterms:created>
  <dc:creator>baptiste</dc:creator>
  <dc:description/>
  <dc:language>en-US</dc:language>
  <cp:lastModifiedBy>Thierry</cp:lastModifiedBy>
  <dcterms:modified xsi:type="dcterms:W3CDTF">2010-04-28T13:51:53Z</dcterms:modified>
  <cp:revision>92</cp:revision>
  <dc:subject/>
  <dc:title>Diapositive 1</dc:title>
</cp:coreProperties>
</file>