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2FADE-1F19-407A-A025-354196E7C4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A41F3-FEA5-4781-B1F1-9668F5BD76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B7A55-3BBD-4D61-AF8F-956702880C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D54BB-0E04-4EE8-B3CB-63EA0ACAB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B6356-42E5-4D6E-9962-6CD2B26637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08182-B048-4F10-8786-CC6498652C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1242D-43D1-46A6-8EF5-2F7BD6D6C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8ACAB-33FA-4E38-908E-D23BCEA95D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62CE-F27D-4406-BAA0-7C902978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2890-B3F2-4787-B394-92E4A666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7ADD-DC53-4636-ABB9-55D5EF55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631F-7153-4210-A95C-4CB00BF9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A8FA-9E54-4362-B52E-3D233B47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0CD4-681D-4544-AF54-A7221BA5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0033-AE3B-48D3-8FFD-BE8CFF70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17B7-5C41-425A-A62F-1D3EF624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1F50-D7C5-4DA4-B243-09D25EB5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ADA4-5AA4-4BBC-AD37-E6880211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AE52-89D1-4A6A-86BF-C383EF7E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52D7-978D-4F50-8A19-1BA40F09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445B-1537-4103-A8C8-969A9BFA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1C11-9EA6-4521-A1CE-E2AA5E87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5B8E-4AD7-4995-8CEB-3DA418EB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2871-6BE7-4779-89E4-EF1A65AE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EA4C-EB7B-4B6E-B56A-CA35A26F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E476-25F9-40A0-8722-2A8409DE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5A7D-0743-4CA9-8601-FB8572E8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FA54-D94C-4057-B268-8B69589B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929B-04E7-4E47-8BDA-3ACD0F14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EF07-813F-46F5-BDF6-5929E3D7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BC9-BDC8-4278-916F-DEED7AEB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84AD-81BE-4D0D-8208-7753EA74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19CC69-41C6-45D4-860F-4EB9221B8C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81080" cy="9176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640"/>
              <a:gd name="textAreaBottom" fmla="*/ 917280 h 917640"/>
            </a:gdLst>
            <a:ahLst/>
            <a:rect l="textAreaLeft" t="textAreaTop" r="textAreaRight" b="textAreaBottom"/>
            <a:pathLst>
              <a:path w="21600" h="109286">
                <a:moveTo>
                  <a:pt x="189" y="0"/>
                </a:moveTo>
                <a:arcTo wR="189" hR="189" stAng="16200000" swAng="-5400000"/>
                <a:lnTo>
                  <a:pt x="0" y="109097"/>
                </a:lnTo>
                <a:arcTo wR="189" hR="189" stAng="10800000" swAng="-5400000"/>
                <a:lnTo>
                  <a:pt x="21411" y="109286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38140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16856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1987560" y="7289640"/>
            <a:ext cx="80913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6A9788-B208-4C30-BF0E-66616D5EB3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rcade Oxf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71440" y="1619280"/>
            <a:ext cx="4227480" cy="57592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39960" y="1768320"/>
            <a:ext cx="5359320" cy="561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 the picture, we can see a shopping arcade in Oxf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udents from Oxford university often work part-time in sh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539640" y="2144880"/>
            <a:ext cx="6840720" cy="52336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12360" y="0"/>
            <a:ext cx="946620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 the picture we can see the biggest library of Oxford : the name of the library is the Bodleian Library. In that library, there are more than nine million books in the ba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5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lleg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846000" y="1768320"/>
            <a:ext cx="3741840" cy="49896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ow we can see one of the most famous colleges in the worl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lus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79280" y="320760"/>
            <a:ext cx="39592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The picture shows a group of pupils of 5</a:t>
            </a:r>
            <a:r>
              <a:rPr b="0" lang="fr-FR" sz="4000" spc="-1" strike="noStrike" baseline="30000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; they are eating their lun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"/>
          <p:cNvPicPr/>
          <p:nvPr/>
        </p:nvPicPr>
        <p:blipFill>
          <a:blip r:embed="rId1"/>
          <a:stretch/>
        </p:blipFill>
        <p:spPr>
          <a:xfrm>
            <a:off x="900000" y="196920"/>
            <a:ext cx="8136000" cy="556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20720" y="5758920"/>
            <a:ext cx="864072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is is the High Street in Oxford. In this street there are lots of  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blinds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" descr=""/>
          <p:cNvPicPr/>
          <p:nvPr/>
        </p:nvPicPr>
        <p:blipFill>
          <a:blip r:embed="rId1"/>
          <a:stretch/>
        </p:blipFill>
        <p:spPr>
          <a:xfrm>
            <a:off x="2519280" y="1619280"/>
            <a:ext cx="7305840" cy="5580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78920" y="291600"/>
            <a:ext cx="648036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is is outside ChristChurch Colle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48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49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4160" y="179280"/>
            <a:ext cx="442584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The university of Oxford is one of the oldest in the world. Buildings in Oxford show an example of every British architectural period since the arrival of the Sax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7:15:46Z</dcterms:created>
  <dc:creator>Sabine Duchenne</dc:creator>
  <dc:description/>
  <dc:language>en-US</dc:language>
  <cp:lastModifiedBy>Sabine Duchenne</cp:lastModifiedBy>
  <dcterms:modified xsi:type="dcterms:W3CDTF">2010-06-09T16:57:15Z</dcterms:modified>
  <cp:revision>6</cp:revision>
  <dc:subject/>
  <dc:title>Arcade Oxford</dc:title>
</cp:coreProperties>
</file>