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C0A8F-88AD-487E-AC37-757C2B7F0A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7D815-643D-4CC3-8B35-3C58F0B325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CC9DF-E653-442C-8CEE-2DA4BCBFAB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CCB0A-F06C-41B0-AC03-F560D9A32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0F836-F3AF-4B8F-AA3D-AB9CCFBD3D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5018B-0B43-410A-A71A-1F60126098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C0F8C-B965-412B-86B7-F9124E27E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37CAA-C008-4E33-A1A6-752A7CE072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83A5-EA4E-416A-9A41-F65FBCC9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419A-30C1-4117-845A-7D5BECAF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5245-134E-400E-98B2-CAC0000F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FE95-F40E-4E38-AAD7-AFD93682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AC5-DC81-4EDE-94B9-DF0DAE3B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3A4-AD4D-4427-80DD-85A567A5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53D9-70F1-4923-8A49-78648A92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EF1A-B266-404B-AB10-076B2272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093C-106B-47B1-ADD2-1718A028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232-6A79-4AFF-9EB6-13D004FE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D160-EF32-4B65-BCBE-32983D7A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36BB-711E-4282-A69F-E4D38D10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D9A6-0959-4FE3-9FFA-DDED6A8E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C209-D25E-47BC-A874-798369E0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DD9A-17C8-424C-88B1-1F772224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C40A-DC84-42A0-BC1C-FADFE623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E16B-90B2-4679-AA0E-B631254F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7C89-52BB-4D2F-A156-83AF8AF4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B622-2021-43ED-931D-462B83F1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2C0F-322A-4858-9D77-821BF79B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BEA3-9C15-40DC-B81D-99FA5E98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6E2-F7B7-4C0B-B545-6D992F86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245D-AC6D-439A-B59B-731D76E2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8C68-4034-412B-96E0-5E3C6FFF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1823B3-E086-46D1-A0CF-97E1CE6F42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81080" cy="9176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640"/>
              <a:gd name="textAreaBottom" fmla="*/ 917280 h 917640"/>
            </a:gdLst>
            <a:ahLst/>
            <a:rect l="textAreaLeft" t="textAreaTop" r="textAreaRight" b="textAreaBottom"/>
            <a:pathLst>
              <a:path w="21600" h="109286">
                <a:moveTo>
                  <a:pt x="189" y="0"/>
                </a:moveTo>
                <a:arcTo wR="189" hR="189" stAng="16200000" swAng="-5400000"/>
                <a:lnTo>
                  <a:pt x="0" y="109097"/>
                </a:lnTo>
                <a:arcTo wR="189" hR="189" stAng="10800000" swAng="-5400000"/>
                <a:lnTo>
                  <a:pt x="21411" y="109286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38140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16856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1987560" y="7289640"/>
            <a:ext cx="80913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620730-D032-45EC-9188-349ECDED84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rcade Oxf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71440" y="1619280"/>
            <a:ext cx="4227480" cy="57592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39960" y="1768320"/>
            <a:ext cx="5359320" cy="561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 the picture, we can see a shopping arcade in Oxf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udents from Oxford university often work part-time in sh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539640" y="2144880"/>
            <a:ext cx="6840720" cy="52336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12360" y="0"/>
            <a:ext cx="946620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 the picture we can see the biggest library of Oxford : the name of the library is the Bodleian Library. In that library, there are more than nine million books in the ba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5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lleg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846000" y="1768320"/>
            <a:ext cx="3741840" cy="49896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ow we can see one of the most famous colleges in the worl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lus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79280" y="320760"/>
            <a:ext cx="39592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The picture shows a group of pupils of 5</a:t>
            </a:r>
            <a:r>
              <a:rPr b="0" lang="fr-FR" sz="4000" spc="-1" strike="noStrike" baseline="30000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; they are eating their lun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"/>
          <p:cNvPicPr/>
          <p:nvPr/>
        </p:nvPicPr>
        <p:blipFill>
          <a:blip r:embed="rId1"/>
          <a:stretch/>
        </p:blipFill>
        <p:spPr>
          <a:xfrm>
            <a:off x="900000" y="196920"/>
            <a:ext cx="8136000" cy="556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20720" y="5758920"/>
            <a:ext cx="864072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is is the High Street in Oxford. In this street there are lots of  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blinds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" descr=""/>
          <p:cNvPicPr/>
          <p:nvPr/>
        </p:nvPicPr>
        <p:blipFill>
          <a:blip r:embed="rId1"/>
          <a:stretch/>
        </p:blipFill>
        <p:spPr>
          <a:xfrm>
            <a:off x="2519280" y="1619280"/>
            <a:ext cx="7305840" cy="5580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78920" y="291600"/>
            <a:ext cx="648036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is is outside ChristChurch Colle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48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49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4160" y="179280"/>
            <a:ext cx="442584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The university of Oxford is one of the oldest in the world. Buildings in Oxford show an example of every British architectural period since the arrival of the Sax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7:15:46Z</dcterms:created>
  <dc:creator>Sabine Duchenne</dc:creator>
  <dc:description/>
  <dc:language>en-US</dc:language>
  <cp:lastModifiedBy>Sabine Duchenne</cp:lastModifiedBy>
  <dcterms:modified xsi:type="dcterms:W3CDTF">2010-06-09T16:57:15Z</dcterms:modified>
  <cp:revision>6</cp:revision>
  <dc:subject/>
  <dc:title>Arcade Oxford</dc:title>
</cp:coreProperties>
</file>