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E06654-CC98-4264-9754-F8201BD83E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3F59FE-6E68-4CF7-B5B2-9896CDD061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C23204-2989-46E9-91DF-0BDB3176BA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4B559A-6414-4904-855B-987C04E9E5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C9CFF-C926-44F0-9CAF-852479B908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49F63C-E491-4CBC-8839-5B033FD312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81899A-35FF-4B6A-944C-94B1BB2B24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1DF7DE-B3CD-4159-9193-B47E29B73D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B27E86-9888-4AA1-8E17-4C689F21E8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62948-2267-4932-BD3B-6B9929EF35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DB3281-DCF0-4CE1-968D-6F69F13C54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0436-157D-49A2-8515-F4D34BD39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E915-414F-4969-8EA8-52384338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FC95-CBA9-402B-AF0E-EF33C1ACF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E74A-0EB9-4176-B804-C640F5122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6F44-0E9E-485B-A991-B716D051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4C3D-616B-4759-961B-D4FAB5AB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5B11-96D0-447E-849A-F461C1F4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B8AC-A391-4F9A-BEBF-6222B778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D0D6-9C9A-428F-A379-903CC79D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0562-4941-4F9A-9726-9FD1E8D7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F20D-32F2-402D-B03C-30B7F489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084F-0681-4442-BAD5-AAA9B3BB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2436828-F027-46E9-B684-DAB93FD61169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3603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4400" spc="-1" strike="noStrike" u="sng">
                <a:solidFill>
                  <a:srgbClr val="ff0000"/>
                </a:solidFill>
                <a:uFillTx/>
                <a:latin typeface="Broadway"/>
              </a:rPr>
              <a:t>The group in Bib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360360" y="2340000"/>
            <a:ext cx="4680000" cy="3779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40360" y="1800000"/>
            <a:ext cx="4859280" cy="5392440"/>
          </a:xfrm>
          <a:prstGeom prst="rect">
            <a:avLst/>
          </a:prstGeom>
          <a:noFill/>
          <a:ln w="0">
            <a:noFill/>
          </a:ln>
        </p:spPr>
        <p:txBody>
          <a:bodyPr lIns="0" rIns="0" tIns="37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Courier New"/>
              </a:rPr>
              <a:t>This photo was taken in Bilbury when  Mr Danneels was telling us about the village.In the foreground we can see Quenti</a:t>
            </a:r>
            <a:r>
              <a:rPr b="1" i="1" lang="en-US" sz="4200" spc="-1" strike="noStrike">
                <a:solidFill>
                  <a:srgbClr val="0000ff"/>
                </a:solidFill>
                <a:latin typeface="Courier New"/>
              </a:rPr>
              <a:t>n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17928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4400" spc="-1" strike="noStrike">
                <a:solidFill>
                  <a:srgbClr val="ff0000"/>
                </a:solidFill>
                <a:latin typeface="Broadway"/>
              </a:rPr>
              <a:t>The landsca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1260360"/>
            <a:ext cx="10080720" cy="63010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34880" y="1474560"/>
            <a:ext cx="6226200" cy="5724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4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i="1" lang="fr-FR" sz="3600" spc="-1" strike="noStrike">
                <a:solidFill>
                  <a:srgbClr val="00ffff"/>
                </a:solidFill>
                <a:latin typeface="Courier New"/>
              </a:rPr>
              <a:t>In the picture, we can    see a beautiful landscape. In the background, we can see a house and a lot of trees. In England, gardeners take care of the flower beds very well so flowers are very beautif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9440" y="139680"/>
            <a:ext cx="9069480" cy="1300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4400" spc="-1" strike="noStrike" u="sng">
                <a:solidFill>
                  <a:srgbClr val="ff0000"/>
                </a:solidFill>
                <a:uFillTx/>
                <a:latin typeface="Broadway"/>
              </a:rPr>
              <a:t>The famous str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5580000" y="2700360"/>
            <a:ext cx="4319640" cy="3240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8920" y="1260000"/>
            <a:ext cx="5219640" cy="62708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00b8ff"/>
                </a:solidFill>
                <a:latin typeface="Courier New"/>
              </a:rPr>
              <a:t> </a:t>
            </a:r>
            <a:r>
              <a:rPr b="1" i="1" lang="en-US" sz="4400" spc="-1" strike="noStrike">
                <a:solidFill>
                  <a:srgbClr val="0000ff"/>
                </a:solidFill>
                <a:latin typeface="Courier New"/>
              </a:rPr>
              <a:t>This street is very famous because it is in a lot of guides. Houses are traditional and ol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4400" spc="-1" strike="noStrike" u="sng">
                <a:solidFill>
                  <a:srgbClr val="ff0000"/>
                </a:solidFill>
                <a:uFillTx/>
                <a:latin typeface="Broadway"/>
              </a:rPr>
              <a:t>The Rack Is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1440000"/>
            <a:ext cx="10080720" cy="6119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79640" y="1979280"/>
            <a:ext cx="6045120" cy="50245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 fontScale="94000"/>
          </a:bodyPr>
          <a:p>
            <a:pPr marL="3222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44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i="1" lang="fr-FR" sz="4400" spc="-1" strike="noStrike">
                <a:solidFill>
                  <a:srgbClr val="0000ff"/>
                </a:solidFill>
                <a:latin typeface="Courier New"/>
              </a:rPr>
              <a:t>In this picture, we can see a river, its name is The Coln River. In the middle of the Rack Isle we can see grass and ston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069480" cy="1300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4400" spc="-1" strike="noStrike" u="sng">
                <a:solidFill>
                  <a:srgbClr val="ff0000"/>
                </a:solidFill>
                <a:uFillTx/>
                <a:latin typeface="Broadway"/>
              </a:rPr>
              <a:t>The Rack Isle's sig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5149800" y="2603520"/>
            <a:ext cx="4425840" cy="33195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2920" y="1979280"/>
            <a:ext cx="48974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 fontScale="99000"/>
          </a:bodyPr>
          <a:p>
            <a:pPr marL="3394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4400" spc="-1" strike="noStrike">
                <a:solidFill>
                  <a:srgbClr val="0000ff"/>
                </a:solidFill>
                <a:latin typeface="Courier New"/>
              </a:rPr>
              <a:t>It's a sign of the river. In this place, we can see  birds and other animals aroun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4400" spc="-1" strike="noStrike" u="sng">
                <a:solidFill>
                  <a:srgbClr val="ff0000"/>
                </a:solidFill>
                <a:uFillTx/>
                <a:latin typeface="Broadway"/>
              </a:rPr>
              <a:t>The Bibury's chu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539640" y="1440000"/>
            <a:ext cx="4048200" cy="53179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754520" y="1800360"/>
            <a:ext cx="5145120" cy="5024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i="1" lang="en-US" sz="4400" spc="-1" strike="noStrike">
                <a:solidFill>
                  <a:srgbClr val="0000ff"/>
                </a:solidFill>
                <a:latin typeface="Courier New"/>
              </a:rPr>
              <a:t>In the picture we can see the church of Bibury. It's next to Bibury's village school</a:t>
            </a:r>
            <a:r>
              <a:rPr b="1" i="1" lang="en-US" sz="4400" spc="-1" strike="noStrike">
                <a:solidFill>
                  <a:srgbClr val="00dcff"/>
                </a:solidFill>
                <a:latin typeface="Courier Ne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282240"/>
            <a:ext cx="9069480" cy="12999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4400" spc="-1" strike="noStrike" u="sng">
                <a:solidFill>
                  <a:srgbClr val="ff0000"/>
                </a:solidFill>
                <a:uFillTx/>
                <a:latin typeface="Broadway"/>
              </a:rPr>
              <a:t>The chu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5149800" y="2603520"/>
            <a:ext cx="4425840" cy="33195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34520" y="1800000"/>
            <a:ext cx="442620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Courier New"/>
              </a:rPr>
              <a:t>It's another picture of  Bibury chu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4400" spc="-1" strike="noStrike" u="sng">
                <a:solidFill>
                  <a:srgbClr val="ff0000"/>
                </a:solidFill>
                <a:uFillTx/>
                <a:latin typeface="Broadway"/>
              </a:rPr>
              <a:t>The school of Bib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539640" y="2519280"/>
            <a:ext cx="3240360" cy="36003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90520" y="2160720"/>
            <a:ext cx="60087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 fontScale="99000"/>
          </a:bodyPr>
          <a:p>
            <a:pPr marL="3394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0047ff"/>
                </a:solidFill>
                <a:latin typeface="Courier New"/>
              </a:rPr>
              <a:t>This is a sign of  Bibury primary school. On this, we can read: « Welcome to Bibury C of E Primary School 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282240"/>
            <a:ext cx="9069480" cy="12999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 u="sng">
                <a:solidFill>
                  <a:srgbClr val="ff0000"/>
                </a:solidFill>
                <a:uFillTx/>
                <a:latin typeface="Broadway"/>
              </a:rPr>
              <a:t>The church and the gravey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5491080" y="1768320"/>
            <a:ext cx="3741840" cy="49881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4859280" cy="5648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 fontScale="99000"/>
          </a:bodyPr>
          <a:p>
            <a:pPr marL="3394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0000ff"/>
                </a:solidFill>
                <a:latin typeface="Courier New"/>
              </a:rPr>
              <a:t>This is the path to go to  the church of  Bibury village. In the background we can see  a graveyar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447840"/>
            <a:ext cx="907092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4400" spc="-1" strike="noStrike">
                <a:solidFill>
                  <a:srgbClr val="ff0000"/>
                </a:solidFill>
                <a:latin typeface="Broadway"/>
              </a:rPr>
              <a:t>Bibury  village </a:t>
            </a:r>
            <a:r>
              <a:rPr b="0" lang="fr-FR" sz="4400" spc="-1" strike="noStrike">
                <a:solidFill>
                  <a:srgbClr val="000000"/>
                </a:solidFill>
                <a:latin typeface="Broadway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79280" y="1800360"/>
            <a:ext cx="4859280" cy="40240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114520" y="1800000"/>
            <a:ext cx="4784760" cy="56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fr-FR" sz="4400" spc="-1" strike="noStrike">
                <a:solidFill>
                  <a:srgbClr val="0000ff"/>
                </a:solidFill>
                <a:latin typeface="Courier New"/>
              </a:rPr>
              <a:t>This is a house in Bibury village. In the picture, we can see Miss Duhayon and Mrs Ruoc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4T07:30:32Z</dcterms:created>
  <dc:creator>Sabine Duchenne</dc:creator>
  <dc:description/>
  <dc:language>en-US</dc:language>
  <cp:lastModifiedBy>Sabine Duchenne</cp:lastModifiedBy>
  <dcterms:modified xsi:type="dcterms:W3CDTF">2010-06-09T17:06:54Z</dcterms:modified>
  <cp:revision>7</cp:revision>
  <dc:subject/>
  <dc:title>The groupe in Bibury</dc:title>
</cp:coreProperties>
</file>