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E5-F91D-425E-B275-0A579B13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421-9C35-4200-AC62-A989EF7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78F-23D1-4E99-937B-255FC364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ACD-2DE5-4D81-B020-AFB27725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AC5-A3C7-42AC-932B-321BB84F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840-C0CF-4BDD-B89B-157856E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7E0-8C4D-4EF5-8EC6-6AA871A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03A-136C-406D-A21D-D12CC68F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7D9-D8F3-49CC-88E6-01E6AB1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58D-CAB7-4F9D-A60C-524E873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593-BD54-465B-9A37-D264B13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455-FE6B-402A-8B27-E0A166C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7592E4-604D-4155-8DBC-E1B8CF7B5BB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Verdana"/>
              </a:rPr>
              <a:t>This is Wembley stadium. The capacity of the stadium is 90 000 seats and the stadium has 2 618 toilets because it sells 50 000 beers in 10 minut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50072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4208400" cy="4140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Overlooking the  lawn. There’s the TV presenter’s cabin on the other si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959280" y="2519280"/>
            <a:ext cx="720720" cy="268200"/>
          </a:xfrm>
          <a:prstGeom prst="leftArrow">
            <a:avLst>
              <a:gd name="adj1" fmla="val 50000"/>
              <a:gd name="adj2" fmla="val 67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stand for the celebrities for example Arsène Wenger, Michel Platini... This is the stand for the players' wives and  childr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31964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820800" y="2160720"/>
            <a:ext cx="4106880" cy="467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east stand of Wemble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stand for the fans of the  team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752400" y="2160720"/>
            <a:ext cx="41068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319640" cy="467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gardener of Wembley. He's mowing the new law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820800" y="2340000"/>
            <a:ext cx="4106880" cy="4319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 the foreground, there is the FA Cup and in the background, there is the west stand for the fans of the different team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20800" y="2340000"/>
            <a:ext cx="4106880" cy="4140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at man was our guide for Miss Duhayon and Miss Ruocco's group. His name is Daniel but we called him Da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820800" y="2160720"/>
            <a:ext cx="4106880" cy="4679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flag for the next world cup because England would like to host the 2018 FIFA World Cup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Lorette et Chloé Rogi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2:21:05Z</dcterms:created>
  <dc:creator>Sabine Duchenne</dc:creator>
  <dc:description/>
  <dc:language>en-US</dc:language>
  <cp:lastModifiedBy>Sabine Duchenne</cp:lastModifiedBy>
  <dcterms:modified xsi:type="dcterms:W3CDTF">2010-06-09T14:45:19Z</dcterms:modified>
  <cp:revision>7</cp:revision>
  <dc:subject/>
  <dc:title>Wembley Stadium</dc:title>
</cp:coreProperties>
</file>