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397-BCBC-40C5-945B-7F3037DA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E56-5527-40A3-BDF0-70575FB6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F8E-F4F0-4A0B-B0AE-D93A567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500-E528-4932-8048-B5163955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2D5-F4A1-4191-8D2B-089C65F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FB5-4BAC-497D-B1E5-5CE32289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E2F-1BF0-447E-AD2E-2F4B58D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BE1-8959-4890-99E4-78A59773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358-C5A0-438A-963E-0FCABE1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C89-E643-4350-A56F-873CE93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481-0658-497F-8F75-5703EF0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353-A776-4362-B98C-B7D6FD7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4272C9-FF81-49DB-8C94-1C2DC0F85E7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Verdana"/>
              </a:rPr>
              <a:t>This is Wembley stadium. The capacity of the stadium is 90 000 seats and the stadium has 2 618 toilets because it sells 50 000 beers in 10 minut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50072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4208400" cy="4140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Overlooking the  lawn. There’s the TV presenter’s cabin on the other si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959280" y="2519280"/>
            <a:ext cx="720720" cy="268200"/>
          </a:xfrm>
          <a:prstGeom prst="leftArrow">
            <a:avLst>
              <a:gd name="adj1" fmla="val 50000"/>
              <a:gd name="adj2" fmla="val 67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stand for the celebrities for example Arsène Wenger, Michel Platini... This is the stand for the players' wives and  childr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31964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820800" y="2160720"/>
            <a:ext cx="4106880" cy="467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east stand of Wemble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688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stand for the fans of the  team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752400" y="2160720"/>
            <a:ext cx="41068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319640" cy="467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gardener of Wembley. He's mowing the new law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820800" y="2340000"/>
            <a:ext cx="4106880" cy="4319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 the foreground, there is the FA Cup and in the background, there is the west stand for the fans of the different team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20800" y="2340000"/>
            <a:ext cx="4106880" cy="4140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at man was our guide for Miss Duhayon and Miss Ruocco's group. His name is Daniel but we called him Da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Wembley stadium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820800" y="2160720"/>
            <a:ext cx="4106880" cy="4679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3396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his is the flag for the next world cup because England would like to host the 2018 FIFA World Cup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7932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Lorette et Chloé Rogi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2:21:05Z</dcterms:created>
  <dc:creator>Sabine Duchenne</dc:creator>
  <dc:description/>
  <dc:language>en-US</dc:language>
  <cp:lastModifiedBy>Sabine Duchenne</cp:lastModifiedBy>
  <dcterms:modified xsi:type="dcterms:W3CDTF">2010-06-09T14:45:19Z</dcterms:modified>
  <cp:revision>7</cp:revision>
  <dc:subject/>
  <dc:title>Wembley Stadium</dc:title>
</cp:coreProperties>
</file>